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8E7-44FA-49E0-A142-097593EA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AA9-EB93-4316-86F2-E026027E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5A5-E16D-4CCD-8DB8-4BB27C0B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C8B-6BD8-483B-A37E-F04504F1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2C94-22C8-409A-ADCB-DAA308F5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1D84-1534-4A9D-AC20-29A5740F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FCD-5BEA-44A3-9743-14A1C3C3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C914-1BFA-4A1E-9952-89AF1B0B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C0AC-EC83-4286-A0FE-72DEE18C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258D-6978-438F-A0DE-829CE37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8E7-15E0-43DD-B066-A19B760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D34-9D44-483C-B42A-DC98555F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25D1-3D98-41A2-A0F0-9CAB41DE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236E-2495-4D9D-87D5-CBA82D92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66E6-F052-458A-A3CC-11F96EB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429A-3D46-4FEA-9E30-06013E05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5A8-4955-47F5-80C0-3E0C6B6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80A-E4A3-4702-8834-C56989F3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058-1F88-4AD2-9FF0-0A113FE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8A9-275C-446E-B8CF-DC757B41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2C4-3486-410E-B04E-14D6D70F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A47-04D2-4ED5-89BD-0A0C795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FEA-1322-4EBD-B530-615A953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A82-9BFA-4D94-993D-02CE53F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e9e5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3481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10CC-EFA0-4053-AB5D-2EF6D379285A}" type="slidenum">
              <a:rPr b="0" lang="ru-RU" sz="14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3481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CAF6-77DD-49C8-A469-F8F209C7A1C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Пути повышения профессионального мастерства учителя в свете современных  требований 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развития образования</a:t>
            </a:r>
            <a:endParaRPr b="0" lang="en-US" sz="2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как инструмент педагогического роста учи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Реуцкая Е. Б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Руководитель МО начальных кла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МОУ СОШ с. Верхнемарк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Усть – Кутский рай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Иркутская обла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993300"/>
                </a:solidFill>
                <a:latin typeface="Comic Sans MS"/>
              </a:rPr>
              <a:t>Содержание портфолио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Раздел 1 «Общие сведения об учите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Раздел 2 «Результаты педагогической 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Раздел 3 «Научно методическая деятельност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Раздел 4 «Внеурочная деятельность по предмет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6" action="ppaction://hlinksldjump"/>
              </a:rPr>
              <a:t>Раздел 5 «Учебно-материальная баз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7" action="ppaction://hlinksldjump"/>
              </a:rPr>
              <a:t>Раздел 6 «Выполнение функций классного руководител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8" action="ppaction://hlinksldjump"/>
              </a:rPr>
              <a:t>Раздел 7 «Отзывы о педагогической деятельности учител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  <a:hlinkClick r:id="rId9" action="ppaction://hlinksldjump"/>
              </a:rPr>
              <a:t>Раздел 8 «Общественная деятельность педаг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0">
            <a:hlinkClick r:id="" action="ppaction://hlinkshowjump?jump=endshow"/>
          </p:cNvPr>
          <p:cNvSpPr/>
          <p:nvPr/>
        </p:nvSpPr>
        <p:spPr>
          <a:xfrm>
            <a:off x="810108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1" descr=""/>
          <p:cNvPicPr/>
          <p:nvPr/>
        </p:nvPicPr>
        <p:blipFill>
          <a:blip r:embed="rId10"/>
          <a:stretch/>
        </p:blipFill>
        <p:spPr>
          <a:xfrm>
            <a:off x="1116000" y="404640"/>
            <a:ext cx="1127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67644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Введение (пояснительная записка)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S01145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524720" y="333360"/>
            <a:ext cx="1233360" cy="12970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>
            <a:hlinkClick r:id="rId2" action="ppaction://hlinksldjump"/>
          </p:cNvPr>
          <p:cNvSpPr/>
          <p:nvPr/>
        </p:nvSpPr>
        <p:spPr>
          <a:xfrm>
            <a:off x="7451640" y="558972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8681"/>
                </a:moveTo>
                <a:lnTo>
                  <a:pt x="7301" y="8681"/>
                </a:lnTo>
                <a:lnTo>
                  <a:pt x="7301" y="14016"/>
                </a:lnTo>
                <a:cubicBezTo>
                  <a:pt x="7301" y="14939"/>
                  <a:pt x="8102" y="15670"/>
                  <a:pt x="9138" y="15670"/>
                </a:cubicBezTo>
                <a:lnTo>
                  <a:pt x="10800" y="15670"/>
                </a:lnTo>
                <a:cubicBezTo>
                  <a:pt x="11836" y="15670"/>
                  <a:pt x="12636" y="14939"/>
                  <a:pt x="12636" y="14016"/>
                </a:cubicBezTo>
                <a:lnTo>
                  <a:pt x="12636" y="8681"/>
                </a:lnTo>
                <a:lnTo>
                  <a:pt x="10800" y="8681"/>
                </a:lnTo>
                <a:lnTo>
                  <a:pt x="14308" y="5173"/>
                </a:lnTo>
                <a:lnTo>
                  <a:pt x="17981" y="8681"/>
                </a:lnTo>
                <a:lnTo>
                  <a:pt x="16144" y="8681"/>
                </a:lnTo>
                <a:lnTo>
                  <a:pt x="16144" y="14016"/>
                </a:lnTo>
                <a:cubicBezTo>
                  <a:pt x="16144" y="16784"/>
                  <a:pt x="13568" y="19343"/>
                  <a:pt x="10800" y="19343"/>
                </a:cubicBezTo>
                <a:lnTo>
                  <a:pt x="9138" y="19343"/>
                </a:lnTo>
                <a:cubicBezTo>
                  <a:pt x="6370" y="19343"/>
                  <a:pt x="3794" y="16784"/>
                  <a:pt x="3794" y="14016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Раздел 1 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«Общие сведения об учителе» 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554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464"/>
                </a:solidFill>
                <a:latin typeface="Times New Roman"/>
              </a:rPr>
              <a:t>ФИО педагога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464"/>
                </a:solidFill>
                <a:latin typeface="Times New Roman"/>
              </a:rPr>
              <a:t>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464"/>
                </a:solidFill>
                <a:latin typeface="Times New Roman"/>
              </a:rPr>
              <a:t>Полное название ОУ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464"/>
                </a:solidFill>
                <a:latin typeface="Times New Roman"/>
              </a:rPr>
              <a:t>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464"/>
                </a:solidFill>
                <a:latin typeface="Times New Roman"/>
              </a:rPr>
              <a:t>Образование (что и когда окончил, полученная специальность по диплому)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464"/>
                </a:solidFill>
                <a:latin typeface="Times New Roman"/>
              </a:rPr>
              <a:t>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464"/>
                </a:solidFill>
                <a:latin typeface="Times New Roman"/>
              </a:rPr>
              <a:t>Педагогический стаж 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464"/>
                </a:solidFill>
                <a:latin typeface="Times New Roman"/>
              </a:rPr>
              <a:t>Стаж работы в данном ОУ 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6443640" y="1844640"/>
            <a:ext cx="2305080" cy="280836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380360" y="476280"/>
            <a:ext cx="1152360" cy="1033560"/>
            <a:chOff x="7380360" y="476280"/>
            <a:chExt cx="1152360" cy="1033560"/>
          </a:xfrm>
        </p:grpSpPr>
        <p:sp>
          <p:nvSpPr>
            <p:cNvPr id="125" name="AutoShape 25"/>
            <p:cNvSpPr/>
            <p:nvPr/>
          </p:nvSpPr>
          <p:spPr>
            <a:xfrm>
              <a:off x="7380360" y="476280"/>
              <a:ext cx="115236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27"/>
            <p:cNvSpPr/>
            <p:nvPr/>
          </p:nvSpPr>
          <p:spPr>
            <a:xfrm>
              <a:off x="7641360" y="1345320"/>
              <a:ext cx="497880" cy="640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28"/>
            <p:cNvSpPr/>
            <p:nvPr/>
          </p:nvSpPr>
          <p:spPr>
            <a:xfrm>
              <a:off x="7785360" y="1244880"/>
              <a:ext cx="747000" cy="225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29"/>
            <p:cNvSpPr/>
            <p:nvPr/>
          </p:nvSpPr>
          <p:spPr>
            <a:xfrm>
              <a:off x="7763400" y="1244880"/>
              <a:ext cx="737280" cy="213120"/>
            </a:xfrm>
            <a:prstGeom prst="pie">
              <a:avLst/>
            </a:prstGeom>
            <a:solidFill>
              <a:srgbClr val="d6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7792920" y="1274040"/>
              <a:ext cx="707760" cy="183960"/>
            </a:xfrm>
            <a:prstGeom prst="pie">
              <a:avLst/>
            </a:prstGeom>
            <a:solidFill>
              <a:srgbClr val="84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7753680" y="1243080"/>
              <a:ext cx="7592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2"/>
            <p:cNvSpPr/>
            <p:nvPr/>
          </p:nvSpPr>
          <p:spPr>
            <a:xfrm>
              <a:off x="7795440" y="1424520"/>
              <a:ext cx="3636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33"/>
            <p:cNvSpPr/>
            <p:nvPr/>
          </p:nvSpPr>
          <p:spPr>
            <a:xfrm>
              <a:off x="8066520" y="1341000"/>
              <a:ext cx="397440" cy="168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34"/>
            <p:cNvSpPr/>
            <p:nvPr/>
          </p:nvSpPr>
          <p:spPr>
            <a:xfrm>
              <a:off x="8054280" y="1331280"/>
              <a:ext cx="399960" cy="156240"/>
            </a:xfrm>
            <a:prstGeom prst="pie">
              <a:avLst/>
            </a:prstGeom>
            <a:solidFill>
              <a:srgbClr val="d6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35"/>
            <p:cNvSpPr/>
            <p:nvPr/>
          </p:nvSpPr>
          <p:spPr>
            <a:xfrm>
              <a:off x="8058600" y="1331280"/>
              <a:ext cx="395640" cy="156240"/>
            </a:xfrm>
            <a:prstGeom prst="pie">
              <a:avLst/>
            </a:prstGeom>
            <a:solidFill>
              <a:srgbClr val="84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8041680" y="1325880"/>
              <a:ext cx="419760" cy="16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37"/>
            <p:cNvSpPr/>
            <p:nvPr/>
          </p:nvSpPr>
          <p:spPr>
            <a:xfrm>
              <a:off x="8210520" y="1370160"/>
              <a:ext cx="2044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38"/>
            <p:cNvSpPr/>
            <p:nvPr/>
          </p:nvSpPr>
          <p:spPr>
            <a:xfrm>
              <a:off x="7932240" y="1024560"/>
              <a:ext cx="514800" cy="176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39"/>
            <p:cNvSpPr/>
            <p:nvPr/>
          </p:nvSpPr>
          <p:spPr>
            <a:xfrm>
              <a:off x="8168760" y="958680"/>
              <a:ext cx="356400" cy="27900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40"/>
            <p:cNvSpPr/>
            <p:nvPr/>
          </p:nvSpPr>
          <p:spPr>
            <a:xfrm>
              <a:off x="7924320" y="1142640"/>
              <a:ext cx="496080" cy="363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1"/>
            <p:cNvSpPr/>
            <p:nvPr/>
          </p:nvSpPr>
          <p:spPr>
            <a:xfrm>
              <a:off x="7924320" y="1007640"/>
              <a:ext cx="496080" cy="158760"/>
            </a:xfrm>
            <a:prstGeom prst="pie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2"/>
            <p:cNvSpPr/>
            <p:nvPr/>
          </p:nvSpPr>
          <p:spPr>
            <a:xfrm>
              <a:off x="7922520" y="1004760"/>
              <a:ext cx="499680" cy="18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3"/>
            <p:cNvSpPr/>
            <p:nvPr/>
          </p:nvSpPr>
          <p:spPr>
            <a:xfrm>
              <a:off x="7980480" y="1062000"/>
              <a:ext cx="246960" cy="163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4"/>
            <p:cNvSpPr/>
            <p:nvPr/>
          </p:nvSpPr>
          <p:spPr>
            <a:xfrm>
              <a:off x="7983000" y="900000"/>
              <a:ext cx="537120" cy="273600"/>
            </a:xfrm>
            <a:prstGeom prst="pie">
              <a:avLst/>
            </a:pr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45"/>
            <p:cNvSpPr/>
            <p:nvPr/>
          </p:nvSpPr>
          <p:spPr>
            <a:xfrm>
              <a:off x="8224920" y="971280"/>
              <a:ext cx="297720" cy="25416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46"/>
            <p:cNvSpPr/>
            <p:nvPr/>
          </p:nvSpPr>
          <p:spPr>
            <a:xfrm>
              <a:off x="7978680" y="897480"/>
              <a:ext cx="549720" cy="33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47"/>
            <p:cNvSpPr/>
            <p:nvPr/>
          </p:nvSpPr>
          <p:spPr>
            <a:xfrm>
              <a:off x="8168760" y="965880"/>
              <a:ext cx="195480" cy="9036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8114760" y="1017360"/>
              <a:ext cx="3888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49"/>
            <p:cNvSpPr/>
            <p:nvPr/>
          </p:nvSpPr>
          <p:spPr>
            <a:xfrm>
              <a:off x="8149320" y="1027080"/>
              <a:ext cx="3384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0"/>
            <p:cNvSpPr/>
            <p:nvPr/>
          </p:nvSpPr>
          <p:spPr>
            <a:xfrm>
              <a:off x="8173440" y="1042200"/>
              <a:ext cx="414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51"/>
            <p:cNvSpPr/>
            <p:nvPr/>
          </p:nvSpPr>
          <p:spPr>
            <a:xfrm>
              <a:off x="8205480" y="1059120"/>
              <a:ext cx="345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52"/>
            <p:cNvSpPr/>
            <p:nvPr/>
          </p:nvSpPr>
          <p:spPr>
            <a:xfrm>
              <a:off x="8232120" y="1071720"/>
              <a:ext cx="363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53"/>
            <p:cNvSpPr/>
            <p:nvPr/>
          </p:nvSpPr>
          <p:spPr>
            <a:xfrm>
              <a:off x="8058600" y="1254600"/>
              <a:ext cx="55800" cy="129600"/>
            </a:xfrm>
            <a:prstGeom prst="pie">
              <a:avLst/>
            </a:prstGeom>
            <a:solidFill>
              <a:srgbClr val="b27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>
              <a:off x="7619400" y="1254600"/>
              <a:ext cx="466560" cy="132480"/>
            </a:xfrm>
            <a:prstGeom prst="pie">
              <a:avLst/>
            </a:pr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55"/>
            <p:cNvSpPr/>
            <p:nvPr/>
          </p:nvSpPr>
          <p:spPr>
            <a:xfrm>
              <a:off x="7624440" y="1357920"/>
              <a:ext cx="456120" cy="26280"/>
            </a:xfrm>
            <a:prstGeom prst="pie">
              <a:avLst/>
            </a:pr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56"/>
            <p:cNvSpPr/>
            <p:nvPr/>
          </p:nvSpPr>
          <p:spPr>
            <a:xfrm>
              <a:off x="8054280" y="1253160"/>
              <a:ext cx="6300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57"/>
            <p:cNvSpPr/>
            <p:nvPr/>
          </p:nvSpPr>
          <p:spPr>
            <a:xfrm>
              <a:off x="7778520" y="1296720"/>
              <a:ext cx="124560" cy="46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58"/>
            <p:cNvSpPr/>
            <p:nvPr/>
          </p:nvSpPr>
          <p:spPr>
            <a:xfrm>
              <a:off x="7615080" y="1253160"/>
              <a:ext cx="50220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59"/>
            <p:cNvSpPr/>
            <p:nvPr/>
          </p:nvSpPr>
          <p:spPr>
            <a:xfrm>
              <a:off x="7641360" y="1264320"/>
              <a:ext cx="395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60"/>
            <p:cNvSpPr/>
            <p:nvPr/>
          </p:nvSpPr>
          <p:spPr>
            <a:xfrm>
              <a:off x="7589880" y="1250280"/>
              <a:ext cx="558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61"/>
            <p:cNvSpPr/>
            <p:nvPr/>
          </p:nvSpPr>
          <p:spPr>
            <a:xfrm>
              <a:off x="8019360" y="1260000"/>
              <a:ext cx="666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62"/>
            <p:cNvSpPr/>
            <p:nvPr/>
          </p:nvSpPr>
          <p:spPr>
            <a:xfrm>
              <a:off x="7776000" y="1292040"/>
              <a:ext cx="13428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63"/>
            <p:cNvSpPr/>
            <p:nvPr/>
          </p:nvSpPr>
          <p:spPr>
            <a:xfrm>
              <a:off x="8071200" y="1267200"/>
              <a:ext cx="2196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64"/>
            <p:cNvSpPr/>
            <p:nvPr/>
          </p:nvSpPr>
          <p:spPr>
            <a:xfrm>
              <a:off x="7746480" y="601200"/>
              <a:ext cx="14040" cy="26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65"/>
            <p:cNvSpPr/>
            <p:nvPr/>
          </p:nvSpPr>
          <p:spPr>
            <a:xfrm>
              <a:off x="7717320" y="586080"/>
              <a:ext cx="16920" cy="291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66"/>
            <p:cNvSpPr/>
            <p:nvPr/>
          </p:nvSpPr>
          <p:spPr>
            <a:xfrm>
              <a:off x="7731360" y="588960"/>
              <a:ext cx="22320" cy="21960"/>
            </a:xfrm>
            <a:prstGeom prst="pie">
              <a:avLst/>
            </a:prstGeom>
            <a:solidFill>
              <a:srgbClr val="54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67"/>
            <p:cNvSpPr/>
            <p:nvPr/>
          </p:nvSpPr>
          <p:spPr>
            <a:xfrm>
              <a:off x="7760880" y="524880"/>
              <a:ext cx="192960" cy="93240"/>
            </a:xfrm>
            <a:prstGeom prst="pie">
              <a:avLst/>
            </a:prstGeom>
            <a:solidFill>
              <a:srgbClr val="ac6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68"/>
            <p:cNvSpPr/>
            <p:nvPr/>
          </p:nvSpPr>
          <p:spPr>
            <a:xfrm>
              <a:off x="7721640" y="502560"/>
              <a:ext cx="227520" cy="98280"/>
            </a:xfrm>
            <a:prstGeom prst="pie">
              <a:avLst/>
            </a:pr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69"/>
            <p:cNvSpPr/>
            <p:nvPr/>
          </p:nvSpPr>
          <p:spPr>
            <a:xfrm>
              <a:off x="7953840" y="481320"/>
              <a:ext cx="141840" cy="69840"/>
            </a:xfrm>
            <a:prstGeom prst="pie">
              <a:avLst/>
            </a:pr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70"/>
            <p:cNvSpPr/>
            <p:nvPr/>
          </p:nvSpPr>
          <p:spPr>
            <a:xfrm>
              <a:off x="7605000" y="500760"/>
              <a:ext cx="534600" cy="646200"/>
            </a:xfrm>
            <a:prstGeom prst="pie">
              <a:avLst/>
            </a:pr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71"/>
            <p:cNvSpPr/>
            <p:nvPr/>
          </p:nvSpPr>
          <p:spPr>
            <a:xfrm>
              <a:off x="7585560" y="725760"/>
              <a:ext cx="53280" cy="423720"/>
            </a:xfrm>
            <a:prstGeom prst="pie">
              <a:avLst/>
            </a:prstGeom>
            <a:solidFill>
              <a:srgbClr val="3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72"/>
            <p:cNvSpPr/>
            <p:nvPr/>
          </p:nvSpPr>
          <p:spPr>
            <a:xfrm>
              <a:off x="7536600" y="718560"/>
              <a:ext cx="48600" cy="347400"/>
            </a:xfrm>
            <a:prstGeom prst="pie">
              <a:avLst/>
            </a:prstGeom>
            <a:solidFill>
              <a:srgbClr val="3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73"/>
            <p:cNvSpPr/>
            <p:nvPr/>
          </p:nvSpPr>
          <p:spPr>
            <a:xfrm>
              <a:off x="7563240" y="731160"/>
              <a:ext cx="21960" cy="36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74"/>
            <p:cNvSpPr/>
            <p:nvPr/>
          </p:nvSpPr>
          <p:spPr>
            <a:xfrm>
              <a:off x="7573320" y="686880"/>
              <a:ext cx="360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75"/>
            <p:cNvSpPr/>
            <p:nvPr/>
          </p:nvSpPr>
          <p:spPr>
            <a:xfrm>
              <a:off x="7577640" y="613080"/>
              <a:ext cx="178560" cy="95760"/>
            </a:xfrm>
            <a:prstGeom prst="pie">
              <a:avLst/>
            </a:pr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76"/>
            <p:cNvSpPr/>
            <p:nvPr/>
          </p:nvSpPr>
          <p:spPr>
            <a:xfrm>
              <a:off x="7387200" y="902520"/>
              <a:ext cx="166320" cy="131400"/>
            </a:xfrm>
            <a:prstGeom prst="pie">
              <a:avLst/>
            </a:pr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77"/>
            <p:cNvSpPr/>
            <p:nvPr/>
          </p:nvSpPr>
          <p:spPr>
            <a:xfrm>
              <a:off x="7597080" y="591480"/>
              <a:ext cx="122400" cy="60120"/>
            </a:xfrm>
            <a:prstGeom prst="pie">
              <a:avLst/>
            </a:pr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78"/>
            <p:cNvSpPr/>
            <p:nvPr/>
          </p:nvSpPr>
          <p:spPr>
            <a:xfrm>
              <a:off x="7426440" y="902520"/>
              <a:ext cx="127080" cy="65880"/>
            </a:xfrm>
            <a:prstGeom prst="pie">
              <a:avLst/>
            </a:prstGeom>
            <a:solidFill>
              <a:srgbClr val="3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79"/>
            <p:cNvSpPr/>
            <p:nvPr/>
          </p:nvSpPr>
          <p:spPr>
            <a:xfrm>
              <a:off x="7651440" y="613080"/>
              <a:ext cx="99360" cy="46800"/>
            </a:xfrm>
            <a:prstGeom prst="pie">
              <a:avLst/>
            </a:prstGeom>
            <a:solidFill>
              <a:srgbClr val="4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80"/>
            <p:cNvSpPr/>
            <p:nvPr/>
          </p:nvSpPr>
          <p:spPr>
            <a:xfrm>
              <a:off x="7599960" y="728640"/>
              <a:ext cx="41400" cy="418680"/>
            </a:xfrm>
            <a:prstGeom prst="pie">
              <a:avLst/>
            </a:prstGeom>
            <a:solidFill>
              <a:srgbClr val="0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81"/>
            <p:cNvSpPr/>
            <p:nvPr/>
          </p:nvSpPr>
          <p:spPr>
            <a:xfrm>
              <a:off x="7609320" y="500760"/>
              <a:ext cx="517320" cy="315360"/>
            </a:xfrm>
            <a:prstGeom prst="pie">
              <a:avLst/>
            </a:prstGeom>
            <a:solidFill>
              <a:srgbClr val="a86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82"/>
            <p:cNvSpPr/>
            <p:nvPr/>
          </p:nvSpPr>
          <p:spPr>
            <a:xfrm>
              <a:off x="7895160" y="596160"/>
              <a:ext cx="231840" cy="107280"/>
            </a:xfrm>
            <a:prstGeom prst="pie">
              <a:avLst/>
            </a:prstGeom>
            <a:solidFill>
              <a:srgbClr val="c9a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83"/>
            <p:cNvSpPr/>
            <p:nvPr/>
          </p:nvSpPr>
          <p:spPr>
            <a:xfrm>
              <a:off x="7609320" y="721440"/>
              <a:ext cx="522720" cy="273600"/>
            </a:xfrm>
            <a:prstGeom prst="pie">
              <a:avLst/>
            </a:prstGeom>
            <a:solidFill>
              <a:srgbClr val="4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84"/>
            <p:cNvSpPr/>
            <p:nvPr/>
          </p:nvSpPr>
          <p:spPr>
            <a:xfrm>
              <a:off x="7615080" y="505440"/>
              <a:ext cx="480960" cy="2106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85"/>
            <p:cNvSpPr/>
            <p:nvPr/>
          </p:nvSpPr>
          <p:spPr>
            <a:xfrm>
              <a:off x="7878240" y="813600"/>
              <a:ext cx="54000" cy="66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86"/>
            <p:cNvSpPr/>
            <p:nvPr/>
          </p:nvSpPr>
          <p:spPr>
            <a:xfrm>
              <a:off x="7382880" y="476280"/>
              <a:ext cx="761040" cy="67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87"/>
            <p:cNvSpPr/>
            <p:nvPr/>
          </p:nvSpPr>
          <p:spPr>
            <a:xfrm>
              <a:off x="7587360" y="691920"/>
              <a:ext cx="720" cy="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88"/>
            <p:cNvSpPr/>
            <p:nvPr/>
          </p:nvSpPr>
          <p:spPr>
            <a:xfrm>
              <a:off x="7890480" y="826200"/>
              <a:ext cx="29160" cy="44280"/>
            </a:xfrm>
            <a:prstGeom prst="pie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89"/>
            <p:cNvSpPr/>
            <p:nvPr/>
          </p:nvSpPr>
          <p:spPr>
            <a:xfrm>
              <a:off x="7904880" y="833400"/>
              <a:ext cx="17640" cy="3456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AutoShape 91"/>
          <p:cNvSpPr/>
          <p:nvPr/>
        </p:nvSpPr>
        <p:spPr>
          <a:xfrm>
            <a:off x="1692360" y="558972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8681"/>
                </a:moveTo>
                <a:lnTo>
                  <a:pt x="7301" y="8681"/>
                </a:lnTo>
                <a:lnTo>
                  <a:pt x="7301" y="14016"/>
                </a:lnTo>
                <a:cubicBezTo>
                  <a:pt x="7301" y="14939"/>
                  <a:pt x="8102" y="15670"/>
                  <a:pt x="9138" y="15670"/>
                </a:cubicBezTo>
                <a:lnTo>
                  <a:pt x="10800" y="15670"/>
                </a:lnTo>
                <a:cubicBezTo>
                  <a:pt x="11836" y="15670"/>
                  <a:pt x="12636" y="14939"/>
                  <a:pt x="12636" y="14016"/>
                </a:cubicBezTo>
                <a:lnTo>
                  <a:pt x="12636" y="8681"/>
                </a:lnTo>
                <a:lnTo>
                  <a:pt x="10800" y="8681"/>
                </a:lnTo>
                <a:lnTo>
                  <a:pt x="14308" y="5173"/>
                </a:lnTo>
                <a:lnTo>
                  <a:pt x="17981" y="8681"/>
                </a:lnTo>
                <a:lnTo>
                  <a:pt x="16144" y="8681"/>
                </a:lnTo>
                <a:lnTo>
                  <a:pt x="16144" y="14016"/>
                </a:lnTo>
                <a:cubicBezTo>
                  <a:pt x="16144" y="16784"/>
                  <a:pt x="13568" y="19343"/>
                  <a:pt x="10800" y="19343"/>
                </a:cubicBezTo>
                <a:lnTo>
                  <a:pt x="9138" y="19343"/>
                </a:lnTo>
                <a:cubicBezTo>
                  <a:pt x="6370" y="19343"/>
                  <a:pt x="3794" y="16784"/>
                  <a:pt x="3794" y="14016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92"/>
          <p:cNvSpPr/>
          <p:nvPr/>
        </p:nvSpPr>
        <p:spPr>
          <a:xfrm>
            <a:off x="4572000" y="5589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1" h="21600">
                <a:moveTo>
                  <a:pt x="5279" y="3985"/>
                </a:moveTo>
                <a:lnTo>
                  <a:pt x="12276" y="3985"/>
                </a:lnTo>
                <a:lnTo>
                  <a:pt x="16332" y="7484"/>
                </a:lnTo>
                <a:lnTo>
                  <a:pt x="16332" y="17615"/>
                </a:lnTo>
                <a:lnTo>
                  <a:pt x="5279" y="17615"/>
                </a:lnTo>
                <a:close/>
              </a:path>
              <a:path fill="darken" w="21611" h="21600">
                <a:moveTo>
                  <a:pt x="12276" y="3985"/>
                </a:moveTo>
                <a:lnTo>
                  <a:pt x="16332" y="7484"/>
                </a:lnTo>
                <a:lnTo>
                  <a:pt x="12276" y="7484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93">
            <a:hlinkClick r:id="" action="ppaction://hlinkshowjump?jump=nextslide"/>
          </p:cNvPr>
          <p:cNvSpPr/>
          <p:nvPr/>
        </p:nvSpPr>
        <p:spPr>
          <a:xfrm>
            <a:off x="745164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Comic Sans MS"/>
              </a:rPr>
              <a:t>Раздел 2 </a:t>
            </a:r>
            <a:br>
              <a:rPr sz="2400"/>
            </a:br>
            <a:r>
              <a:rPr b="1" i="1" lang="ru-RU" sz="2400" spc="-1" strike="noStrike">
                <a:solidFill>
                  <a:srgbClr val="993300"/>
                </a:solidFill>
                <a:latin typeface="Comic Sans MS"/>
              </a:rPr>
              <a:t>«Результаты педагогической деятельности»</a:t>
            </a:r>
            <a:endParaRPr b="0" lang="en-US" sz="2400" spc="-1" strike="noStrike">
              <a:solidFill>
                <a:srgbClr val="696464"/>
              </a:solidFill>
              <a:latin typeface="Times New Roman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451640" y="1628640"/>
            <a:ext cx="1320840" cy="1251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/>
          <p:cNvSpPr/>
          <p:nvPr/>
        </p:nvSpPr>
        <p:spPr>
          <a:xfrm>
            <a:off x="3564000" y="184464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озитивная динами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обученности учащих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900000" y="3357720"/>
            <a:ext cx="2662200" cy="129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Результативность участ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обучающихся в предмет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олимпиадах, конкурса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научно-практическ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конференц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6156360" y="3500280"/>
            <a:ext cx="25192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государствен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(итоговой) аттес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обучающих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3419640" y="5229360"/>
            <a:ext cx="2881080" cy="100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Данные 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оступлении выпускник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в ВУЗы и тССУЗ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о предметному направле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619280" y="558972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8681"/>
                </a:moveTo>
                <a:lnTo>
                  <a:pt x="7301" y="8681"/>
                </a:lnTo>
                <a:lnTo>
                  <a:pt x="7301" y="14016"/>
                </a:lnTo>
                <a:cubicBezTo>
                  <a:pt x="7301" y="14939"/>
                  <a:pt x="8102" y="15670"/>
                  <a:pt x="9138" y="15670"/>
                </a:cubicBezTo>
                <a:lnTo>
                  <a:pt x="10800" y="15670"/>
                </a:lnTo>
                <a:cubicBezTo>
                  <a:pt x="11836" y="15670"/>
                  <a:pt x="12636" y="14939"/>
                  <a:pt x="12636" y="14016"/>
                </a:cubicBezTo>
                <a:lnTo>
                  <a:pt x="12636" y="8681"/>
                </a:lnTo>
                <a:lnTo>
                  <a:pt x="10800" y="8681"/>
                </a:lnTo>
                <a:lnTo>
                  <a:pt x="14308" y="5173"/>
                </a:lnTo>
                <a:lnTo>
                  <a:pt x="17981" y="8681"/>
                </a:lnTo>
                <a:lnTo>
                  <a:pt x="16144" y="8681"/>
                </a:lnTo>
                <a:lnTo>
                  <a:pt x="16144" y="14016"/>
                </a:lnTo>
                <a:cubicBezTo>
                  <a:pt x="16144" y="16784"/>
                  <a:pt x="13568" y="19343"/>
                  <a:pt x="10800" y="19343"/>
                </a:cubicBezTo>
                <a:lnTo>
                  <a:pt x="9138" y="19343"/>
                </a:lnTo>
                <a:cubicBezTo>
                  <a:pt x="6370" y="19343"/>
                  <a:pt x="3794" y="16784"/>
                  <a:pt x="3794" y="14016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635280" y="2924280"/>
            <a:ext cx="2592360" cy="22320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5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1333440" cy="10810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6">
            <a:hlinkClick r:id="" action="ppaction://hlinkshowjump?jump=nextslide"/>
          </p:cNvPr>
          <p:cNvSpPr/>
          <p:nvPr/>
        </p:nvSpPr>
        <p:spPr>
          <a:xfrm>
            <a:off x="745164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46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Раздел 3 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«Научно методическая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 деятельность»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85840" cy="12240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3564000" y="1844640"/>
            <a:ext cx="2519280" cy="936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тодическая 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1116000" y="551664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8681"/>
                </a:moveTo>
                <a:lnTo>
                  <a:pt x="7301" y="8681"/>
                </a:lnTo>
                <a:lnTo>
                  <a:pt x="7301" y="14016"/>
                </a:lnTo>
                <a:cubicBezTo>
                  <a:pt x="7301" y="14939"/>
                  <a:pt x="8102" y="15670"/>
                  <a:pt x="9138" y="15670"/>
                </a:cubicBezTo>
                <a:lnTo>
                  <a:pt x="10800" y="15670"/>
                </a:lnTo>
                <a:cubicBezTo>
                  <a:pt x="11836" y="15670"/>
                  <a:pt x="12636" y="14939"/>
                  <a:pt x="12636" y="14016"/>
                </a:cubicBezTo>
                <a:lnTo>
                  <a:pt x="12636" y="8681"/>
                </a:lnTo>
                <a:lnTo>
                  <a:pt x="10800" y="8681"/>
                </a:lnTo>
                <a:lnTo>
                  <a:pt x="14308" y="5173"/>
                </a:lnTo>
                <a:lnTo>
                  <a:pt x="17981" y="8681"/>
                </a:lnTo>
                <a:lnTo>
                  <a:pt x="16144" y="8681"/>
                </a:lnTo>
                <a:lnTo>
                  <a:pt x="16144" y="14016"/>
                </a:lnTo>
                <a:cubicBezTo>
                  <a:pt x="16144" y="16784"/>
                  <a:pt x="13568" y="19343"/>
                  <a:pt x="10800" y="19343"/>
                </a:cubicBezTo>
                <a:lnTo>
                  <a:pt x="9138" y="19343"/>
                </a:lnTo>
                <a:cubicBezTo>
                  <a:pt x="6370" y="19343"/>
                  <a:pt x="3794" y="16784"/>
                  <a:pt x="3794" y="14016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6156360" y="4076640"/>
            <a:ext cx="2519280" cy="936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Участие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офессиональ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онкурс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042920" y="2781360"/>
            <a:ext cx="2519280" cy="936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УП по предме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6084720" y="2852640"/>
            <a:ext cx="2519640" cy="936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Используем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PE01561_"/>
          <p:cNvPicPr/>
          <p:nvPr/>
        </p:nvPicPr>
        <p:blipFill>
          <a:blip r:embed="rId2"/>
          <a:stretch/>
        </p:blipFill>
        <p:spPr>
          <a:xfrm>
            <a:off x="4067280" y="3500280"/>
            <a:ext cx="1584360" cy="10526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10"/>
          <p:cNvSpPr/>
          <p:nvPr/>
        </p:nvSpPr>
        <p:spPr>
          <a:xfrm>
            <a:off x="1042920" y="4076640"/>
            <a:ext cx="2519280" cy="936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элективных к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1"/>
          <p:cNvSpPr/>
          <p:nvPr/>
        </p:nvSpPr>
        <p:spPr>
          <a:xfrm>
            <a:off x="5292720" y="5300640"/>
            <a:ext cx="2519280" cy="936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бобщ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пыта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2050920" y="5300640"/>
            <a:ext cx="2519640" cy="936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3">
            <a:hlinkClick r:id="" action="ppaction://hlinkshowjump?jump=nextslide"/>
          </p:cNvPr>
          <p:cNvSpPr/>
          <p:nvPr/>
        </p:nvSpPr>
        <p:spPr>
          <a:xfrm>
            <a:off x="7956720" y="551664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Раздел 4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 «Внеурочная деятельность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 по предмету»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7380360" y="404640"/>
            <a:ext cx="1295280" cy="1094040"/>
            <a:chOff x="7380360" y="404640"/>
            <a:chExt cx="1295280" cy="1094040"/>
          </a:xfrm>
        </p:grpSpPr>
        <p:sp>
          <p:nvSpPr>
            <p:cNvPr id="216" name="AutoShape 5"/>
            <p:cNvSpPr/>
            <p:nvPr/>
          </p:nvSpPr>
          <p:spPr>
            <a:xfrm>
              <a:off x="7380360" y="404640"/>
              <a:ext cx="129528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7471440" y="459720"/>
              <a:ext cx="1162800" cy="10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7426080" y="825840"/>
              <a:ext cx="905040" cy="612360"/>
            </a:xfrm>
            <a:prstGeom prst="pie">
              <a:avLst/>
            </a:pr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7548480" y="600480"/>
              <a:ext cx="579960" cy="4971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8546400" y="591120"/>
              <a:ext cx="52200" cy="6876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8500680" y="529560"/>
              <a:ext cx="142920" cy="37008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8452440" y="514440"/>
              <a:ext cx="131760" cy="333000"/>
            </a:xfrm>
            <a:prstGeom prst="pie">
              <a:avLst/>
            </a:prstGeom>
            <a:solidFill>
              <a:srgbClr val="dec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8489160" y="437760"/>
              <a:ext cx="93960" cy="1076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8435520" y="425160"/>
              <a:ext cx="92520" cy="9180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8058960" y="420120"/>
              <a:ext cx="577800" cy="64368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8035920" y="417600"/>
              <a:ext cx="592560" cy="644400"/>
            </a:xfrm>
            <a:prstGeom prst="pie">
              <a:avLst/>
            </a:prstGeom>
            <a:solidFill>
              <a:srgbClr val="4d4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8138880" y="544680"/>
              <a:ext cx="240480" cy="184320"/>
            </a:xfrm>
            <a:prstGeom prst="pie">
              <a:avLst/>
            </a:pr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8213400" y="1009080"/>
              <a:ext cx="439560" cy="11448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8163000" y="939960"/>
              <a:ext cx="462240" cy="14400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7660800" y="702360"/>
              <a:ext cx="325800" cy="34236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1"/>
            <p:cNvSpPr/>
            <p:nvPr/>
          </p:nvSpPr>
          <p:spPr>
            <a:xfrm>
              <a:off x="8088480" y="1086120"/>
              <a:ext cx="514080" cy="146160"/>
            </a:xfrm>
            <a:prstGeom prst="pie">
              <a:avLst/>
            </a:pr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2"/>
            <p:cNvSpPr/>
            <p:nvPr/>
          </p:nvSpPr>
          <p:spPr>
            <a:xfrm>
              <a:off x="7721280" y="1328040"/>
              <a:ext cx="605160" cy="15372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3"/>
            <p:cNvSpPr/>
            <p:nvPr/>
          </p:nvSpPr>
          <p:spPr>
            <a:xfrm>
              <a:off x="8086320" y="996480"/>
              <a:ext cx="99360" cy="446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8010720" y="655920"/>
              <a:ext cx="100800" cy="446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8029080" y="727920"/>
              <a:ext cx="99360" cy="446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8047440" y="785160"/>
              <a:ext cx="99360" cy="446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8060040" y="858240"/>
              <a:ext cx="99360" cy="4536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8071200" y="924840"/>
              <a:ext cx="99720" cy="446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9"/>
            <p:cNvSpPr/>
            <p:nvPr/>
          </p:nvSpPr>
          <p:spPr>
            <a:xfrm>
              <a:off x="7389360" y="856800"/>
              <a:ext cx="353520" cy="60444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30"/>
            <p:cNvSpPr/>
            <p:nvPr/>
          </p:nvSpPr>
          <p:spPr>
            <a:xfrm>
              <a:off x="7820640" y="1391040"/>
              <a:ext cx="549360" cy="78480"/>
            </a:xfrm>
            <a:prstGeom prst="pie">
              <a:avLst/>
            </a:prstGeom>
            <a:solidFill>
              <a:srgbClr val="47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1"/>
            <p:cNvSpPr/>
            <p:nvPr/>
          </p:nvSpPr>
          <p:spPr>
            <a:xfrm>
              <a:off x="7743960" y="1299600"/>
              <a:ext cx="635040" cy="175320"/>
            </a:xfrm>
            <a:prstGeom prst="pie">
              <a:avLst/>
            </a:prstGeom>
            <a:solidFill>
              <a:srgbClr val="4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2"/>
            <p:cNvSpPr/>
            <p:nvPr/>
          </p:nvSpPr>
          <p:spPr>
            <a:xfrm>
              <a:off x="7749000" y="1142280"/>
              <a:ext cx="468720" cy="158040"/>
            </a:xfrm>
            <a:prstGeom prst="pie">
              <a:avLst/>
            </a:prstGeom>
            <a:solidFill>
              <a:srgbClr val="bdc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7433640" y="873360"/>
              <a:ext cx="317160" cy="565560"/>
            </a:xfrm>
            <a:prstGeom prst="pie">
              <a:avLst/>
            </a:prstGeom>
            <a:solidFill>
              <a:srgbClr val="4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4"/>
            <p:cNvSpPr/>
            <p:nvPr/>
          </p:nvSpPr>
          <p:spPr>
            <a:xfrm>
              <a:off x="8273880" y="1154160"/>
              <a:ext cx="110880" cy="147600"/>
            </a:xfrm>
            <a:prstGeom prst="pie">
              <a:avLst/>
            </a:prstGeom>
            <a:solidFill>
              <a:srgbClr val="4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35"/>
            <p:cNvSpPr/>
            <p:nvPr/>
          </p:nvSpPr>
          <p:spPr>
            <a:xfrm>
              <a:off x="7405560" y="819000"/>
              <a:ext cx="326880" cy="646200"/>
            </a:xfrm>
            <a:prstGeom prst="pie">
              <a:avLst/>
            </a:prstGeom>
            <a:solidFill>
              <a:srgbClr val="4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36"/>
            <p:cNvSpPr/>
            <p:nvPr/>
          </p:nvSpPr>
          <p:spPr>
            <a:xfrm>
              <a:off x="7531200" y="604800"/>
              <a:ext cx="503640" cy="51660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37"/>
            <p:cNvSpPr/>
            <p:nvPr/>
          </p:nvSpPr>
          <p:spPr>
            <a:xfrm>
              <a:off x="7644600" y="1085760"/>
              <a:ext cx="480600" cy="3420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>
              <a:off x="8111520" y="934920"/>
              <a:ext cx="527040" cy="152280"/>
            </a:xfrm>
            <a:prstGeom prst="pie">
              <a:avLst/>
            </a:prstGeom>
            <a:solidFill>
              <a:srgbClr val="4d4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>
              <a:off x="8199360" y="948960"/>
              <a:ext cx="418680" cy="12204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>
              <a:off x="8191800" y="1040040"/>
              <a:ext cx="409320" cy="5724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8233920" y="1046160"/>
              <a:ext cx="417600" cy="9252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>
              <a:off x="8098920" y="1102680"/>
              <a:ext cx="519480" cy="14580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8480160" y="519120"/>
              <a:ext cx="60480" cy="19332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4"/>
            <p:cNvSpPr/>
            <p:nvPr/>
          </p:nvSpPr>
          <p:spPr>
            <a:xfrm>
              <a:off x="8525880" y="541080"/>
              <a:ext cx="81000" cy="29556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5"/>
            <p:cNvSpPr/>
            <p:nvPr/>
          </p:nvSpPr>
          <p:spPr>
            <a:xfrm>
              <a:off x="8451360" y="427320"/>
              <a:ext cx="88920" cy="10044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46"/>
            <p:cNvSpPr/>
            <p:nvPr/>
          </p:nvSpPr>
          <p:spPr>
            <a:xfrm>
              <a:off x="8505360" y="438120"/>
              <a:ext cx="84240" cy="11520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47"/>
            <p:cNvSpPr/>
            <p:nvPr/>
          </p:nvSpPr>
          <p:spPr>
            <a:xfrm>
              <a:off x="8556840" y="591840"/>
              <a:ext cx="51120" cy="7668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48"/>
            <p:cNvSpPr/>
            <p:nvPr/>
          </p:nvSpPr>
          <p:spPr>
            <a:xfrm>
              <a:off x="7823160" y="1336320"/>
              <a:ext cx="533160" cy="93600"/>
            </a:xfrm>
            <a:prstGeom prst="pie">
              <a:avLst/>
            </a:pr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49"/>
            <p:cNvSpPr/>
            <p:nvPr/>
          </p:nvSpPr>
          <p:spPr>
            <a:xfrm>
              <a:off x="7728120" y="1152000"/>
              <a:ext cx="500040" cy="181080"/>
            </a:xfrm>
            <a:prstGeom prst="pie">
              <a:avLst/>
            </a:pr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50"/>
            <p:cNvSpPr/>
            <p:nvPr/>
          </p:nvSpPr>
          <p:spPr>
            <a:xfrm>
              <a:off x="7667280" y="674640"/>
              <a:ext cx="347760" cy="363960"/>
            </a:xfrm>
            <a:prstGeom prst="pie">
              <a:avLst/>
            </a:pr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51"/>
            <p:cNvSpPr/>
            <p:nvPr/>
          </p:nvSpPr>
          <p:spPr>
            <a:xfrm>
              <a:off x="8074800" y="989640"/>
              <a:ext cx="100440" cy="4392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52"/>
            <p:cNvSpPr/>
            <p:nvPr/>
          </p:nvSpPr>
          <p:spPr>
            <a:xfrm>
              <a:off x="8000280" y="648360"/>
              <a:ext cx="99360" cy="4536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53"/>
            <p:cNvSpPr/>
            <p:nvPr/>
          </p:nvSpPr>
          <p:spPr>
            <a:xfrm>
              <a:off x="8016480" y="720000"/>
              <a:ext cx="99360" cy="4464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8035920" y="777600"/>
              <a:ext cx="99360" cy="4536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55"/>
            <p:cNvSpPr/>
            <p:nvPr/>
          </p:nvSpPr>
          <p:spPr>
            <a:xfrm>
              <a:off x="8048520" y="851400"/>
              <a:ext cx="99360" cy="4464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6"/>
            <p:cNvSpPr/>
            <p:nvPr/>
          </p:nvSpPr>
          <p:spPr>
            <a:xfrm>
              <a:off x="8060040" y="916920"/>
              <a:ext cx="99360" cy="4464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7"/>
            <p:cNvSpPr/>
            <p:nvPr/>
          </p:nvSpPr>
          <p:spPr>
            <a:xfrm>
              <a:off x="8145720" y="534960"/>
              <a:ext cx="262080" cy="21276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58"/>
            <p:cNvSpPr/>
            <p:nvPr/>
          </p:nvSpPr>
          <p:spPr>
            <a:xfrm>
              <a:off x="8218800" y="625680"/>
              <a:ext cx="32040" cy="7236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59"/>
            <p:cNvSpPr/>
            <p:nvPr/>
          </p:nvSpPr>
          <p:spPr>
            <a:xfrm>
              <a:off x="8287560" y="590400"/>
              <a:ext cx="32040" cy="7236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0"/>
            <p:cNvSpPr/>
            <p:nvPr/>
          </p:nvSpPr>
          <p:spPr>
            <a:xfrm>
              <a:off x="8176680" y="581400"/>
              <a:ext cx="183240" cy="10692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1"/>
            <p:cNvSpPr/>
            <p:nvPr/>
          </p:nvSpPr>
          <p:spPr>
            <a:xfrm>
              <a:off x="7724520" y="726840"/>
              <a:ext cx="165960" cy="1512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2"/>
            <p:cNvSpPr/>
            <p:nvPr/>
          </p:nvSpPr>
          <p:spPr>
            <a:xfrm>
              <a:off x="7914600" y="1374480"/>
              <a:ext cx="383400" cy="52920"/>
            </a:xfrm>
            <a:prstGeom prst="pie">
              <a:avLst/>
            </a:pr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AutoShape 71"/>
          <p:cNvSpPr/>
          <p:nvPr/>
        </p:nvSpPr>
        <p:spPr>
          <a:xfrm>
            <a:off x="1692360" y="558972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8681"/>
                </a:moveTo>
                <a:lnTo>
                  <a:pt x="7301" y="8681"/>
                </a:lnTo>
                <a:lnTo>
                  <a:pt x="7301" y="14016"/>
                </a:lnTo>
                <a:cubicBezTo>
                  <a:pt x="7301" y="14939"/>
                  <a:pt x="8102" y="15670"/>
                  <a:pt x="9138" y="15670"/>
                </a:cubicBezTo>
                <a:lnTo>
                  <a:pt x="10800" y="15670"/>
                </a:lnTo>
                <a:cubicBezTo>
                  <a:pt x="11836" y="15670"/>
                  <a:pt x="12636" y="14939"/>
                  <a:pt x="12636" y="14016"/>
                </a:cubicBezTo>
                <a:lnTo>
                  <a:pt x="12636" y="8681"/>
                </a:lnTo>
                <a:lnTo>
                  <a:pt x="10800" y="8681"/>
                </a:lnTo>
                <a:lnTo>
                  <a:pt x="14308" y="5173"/>
                </a:lnTo>
                <a:lnTo>
                  <a:pt x="17981" y="8681"/>
                </a:lnTo>
                <a:lnTo>
                  <a:pt x="16144" y="8681"/>
                </a:lnTo>
                <a:lnTo>
                  <a:pt x="16144" y="14016"/>
                </a:lnTo>
                <a:cubicBezTo>
                  <a:pt x="16144" y="16784"/>
                  <a:pt x="13568" y="19343"/>
                  <a:pt x="10800" y="19343"/>
                </a:cubicBezTo>
                <a:lnTo>
                  <a:pt x="9138" y="19343"/>
                </a:lnTo>
                <a:cubicBezTo>
                  <a:pt x="6370" y="19343"/>
                  <a:pt x="3794" y="16784"/>
                  <a:pt x="3794" y="14016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74"/>
          <p:cNvSpPr/>
          <p:nvPr/>
        </p:nvSpPr>
        <p:spPr>
          <a:xfrm>
            <a:off x="3492360" y="184464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писок проектных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исследовательс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бот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77"/>
          <p:cNvSpPr/>
          <p:nvPr/>
        </p:nvSpPr>
        <p:spPr>
          <a:xfrm>
            <a:off x="1042920" y="37893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овед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едметных нед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78"/>
          <p:cNvSpPr/>
          <p:nvPr/>
        </p:nvSpPr>
        <p:spPr>
          <a:xfrm>
            <a:off x="6084720" y="37893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ценар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некласс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роприя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79"/>
          <p:cNvSpPr/>
          <p:nvPr/>
        </p:nvSpPr>
        <p:spPr>
          <a:xfrm>
            <a:off x="3564000" y="2924280"/>
            <a:ext cx="2448000" cy="1944720"/>
          </a:xfrm>
          <a:prstGeom prst="pi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80"/>
          <p:cNvSpPr/>
          <p:nvPr/>
        </p:nvSpPr>
        <p:spPr>
          <a:xfrm>
            <a:off x="4211640" y="3716280"/>
            <a:ext cx="1152360" cy="1081080"/>
          </a:xfrm>
          <a:prstGeom prst="octagon">
            <a:avLst>
              <a:gd name="adj" fmla="val 2928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63"/>
          <p:cNvPicPr/>
          <p:nvPr/>
        </p:nvPicPr>
        <p:blipFill>
          <a:blip r:embed="rId1"/>
          <a:stretch/>
        </p:blipFill>
        <p:spPr>
          <a:xfrm>
            <a:off x="4427640" y="3860640"/>
            <a:ext cx="760320" cy="79236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90">
            <a:hlinkClick r:id="" action="ppaction://hlinkshowjump?jump=nextslide"/>
          </p:cNvPr>
          <p:cNvSpPr/>
          <p:nvPr/>
        </p:nvSpPr>
        <p:spPr>
          <a:xfrm>
            <a:off x="745164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Раздел 5 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«Учебно-материальная база»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grpSp>
        <p:nvGrpSpPr>
          <p:cNvPr id="282" name="Group 7"/>
          <p:cNvGrpSpPr/>
          <p:nvPr/>
        </p:nvGrpSpPr>
        <p:grpSpPr>
          <a:xfrm>
            <a:off x="7093080" y="333360"/>
            <a:ext cx="1366200" cy="1150560"/>
            <a:chOff x="7093080" y="333360"/>
            <a:chExt cx="1366200" cy="1150560"/>
          </a:xfrm>
        </p:grpSpPr>
        <p:sp>
          <p:nvSpPr>
            <p:cNvPr id="283" name="Freeform 8"/>
            <p:cNvSpPr/>
            <p:nvPr/>
          </p:nvSpPr>
          <p:spPr>
            <a:xfrm>
              <a:off x="7140600" y="364320"/>
              <a:ext cx="1281240" cy="1108080"/>
            </a:xfrm>
            <a:prstGeom prst="pie">
              <a:avLst/>
            </a:pr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9"/>
            <p:cNvSpPr/>
            <p:nvPr/>
          </p:nvSpPr>
          <p:spPr>
            <a:xfrm>
              <a:off x="7149600" y="380520"/>
              <a:ext cx="1271880" cy="1076040"/>
            </a:xfrm>
            <a:prstGeom prst="pie">
              <a:avLst/>
            </a:pr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7097040" y="333360"/>
              <a:ext cx="1032840" cy="9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1"/>
            <p:cNvSpPr/>
            <p:nvPr/>
          </p:nvSpPr>
          <p:spPr>
            <a:xfrm>
              <a:off x="7097760" y="748800"/>
              <a:ext cx="342360" cy="5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2"/>
            <p:cNvSpPr/>
            <p:nvPr/>
          </p:nvSpPr>
          <p:spPr>
            <a:xfrm>
              <a:off x="7197120" y="1002240"/>
              <a:ext cx="219600" cy="288720"/>
            </a:xfrm>
            <a:prstGeom prst="pie">
              <a:avLst/>
            </a:pr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7154640" y="868680"/>
              <a:ext cx="76680" cy="187920"/>
            </a:xfrm>
            <a:prstGeom prst="pie">
              <a:avLst/>
            </a:pr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7111080" y="884520"/>
              <a:ext cx="95760" cy="175680"/>
            </a:xfrm>
            <a:prstGeom prst="pie">
              <a:avLst/>
            </a:pr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7305120" y="748800"/>
              <a:ext cx="117000" cy="304200"/>
            </a:xfrm>
            <a:prstGeom prst="pie">
              <a:avLst/>
            </a:pr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7301520" y="842400"/>
              <a:ext cx="54000" cy="55080"/>
            </a:xfrm>
            <a:prstGeom prst="pie">
              <a:avLst/>
            </a:pr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7319880" y="792000"/>
              <a:ext cx="30960" cy="49680"/>
            </a:xfrm>
            <a:prstGeom prst="pie">
              <a:avLst/>
            </a:pr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7219080" y="871560"/>
              <a:ext cx="57240" cy="183240"/>
            </a:xfrm>
            <a:prstGeom prst="pie">
              <a:avLst/>
            </a:pr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7211160" y="842760"/>
              <a:ext cx="44280" cy="63000"/>
            </a:xfrm>
            <a:prstGeom prst="pie">
              <a:avLst/>
            </a:pr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20"/>
            <p:cNvSpPr/>
            <p:nvPr/>
          </p:nvSpPr>
          <p:spPr>
            <a:xfrm>
              <a:off x="7305120" y="748800"/>
              <a:ext cx="138960" cy="304200"/>
            </a:xfrm>
            <a:prstGeom prst="pie">
              <a:avLst/>
            </a:pr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7281000" y="894600"/>
              <a:ext cx="54000" cy="158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22"/>
            <p:cNvSpPr/>
            <p:nvPr/>
          </p:nvSpPr>
          <p:spPr>
            <a:xfrm>
              <a:off x="7114680" y="885240"/>
              <a:ext cx="85320" cy="174960"/>
            </a:xfrm>
            <a:prstGeom prst="pie">
              <a:avLst/>
            </a:pr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23"/>
            <p:cNvSpPr/>
            <p:nvPr/>
          </p:nvSpPr>
          <p:spPr>
            <a:xfrm>
              <a:off x="7131240" y="812880"/>
              <a:ext cx="38880" cy="74160"/>
            </a:xfrm>
            <a:prstGeom prst="pie">
              <a:avLst/>
            </a:pr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24"/>
            <p:cNvSpPr/>
            <p:nvPr/>
          </p:nvSpPr>
          <p:spPr>
            <a:xfrm>
              <a:off x="7223400" y="1059840"/>
              <a:ext cx="164160" cy="210240"/>
            </a:xfrm>
            <a:prstGeom prst="pie">
              <a:avLst/>
            </a:pr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25"/>
            <p:cNvSpPr/>
            <p:nvPr/>
          </p:nvSpPr>
          <p:spPr>
            <a:xfrm>
              <a:off x="7463880" y="360360"/>
              <a:ext cx="611280" cy="60912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26"/>
            <p:cNvSpPr/>
            <p:nvPr/>
          </p:nvSpPr>
          <p:spPr>
            <a:xfrm>
              <a:off x="7538400" y="444960"/>
              <a:ext cx="425880" cy="430200"/>
            </a:xfrm>
            <a:prstGeom prst="pie">
              <a:avLst/>
            </a:pr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27"/>
            <p:cNvSpPr/>
            <p:nvPr/>
          </p:nvSpPr>
          <p:spPr>
            <a:xfrm>
              <a:off x="7601760" y="996840"/>
              <a:ext cx="376560" cy="7092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28"/>
            <p:cNvSpPr/>
            <p:nvPr/>
          </p:nvSpPr>
          <p:spPr>
            <a:xfrm>
              <a:off x="7571520" y="514080"/>
              <a:ext cx="154440" cy="136440"/>
            </a:xfrm>
            <a:prstGeom prst="pie">
              <a:avLst/>
            </a:pr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9"/>
            <p:cNvSpPr/>
            <p:nvPr/>
          </p:nvSpPr>
          <p:spPr>
            <a:xfrm>
              <a:off x="7808400" y="682200"/>
              <a:ext cx="96840" cy="128520"/>
            </a:xfrm>
            <a:prstGeom prst="pie">
              <a:avLst/>
            </a:pr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8165880" y="1202760"/>
              <a:ext cx="229320" cy="1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8165880" y="1232640"/>
              <a:ext cx="234360" cy="14292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8170200" y="1297800"/>
              <a:ext cx="222120" cy="777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8172000" y="1243800"/>
              <a:ext cx="5472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34"/>
            <p:cNvSpPr/>
            <p:nvPr/>
          </p:nvSpPr>
          <p:spPr>
            <a:xfrm>
              <a:off x="8341920" y="1264680"/>
              <a:ext cx="6084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8157600" y="1200960"/>
              <a:ext cx="199440" cy="17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8296200" y="1281240"/>
              <a:ext cx="5652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230320" y="1225440"/>
              <a:ext cx="882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38"/>
            <p:cNvSpPr/>
            <p:nvPr/>
          </p:nvSpPr>
          <p:spPr>
            <a:xfrm>
              <a:off x="8203680" y="1214280"/>
              <a:ext cx="5796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39"/>
            <p:cNvSpPr/>
            <p:nvPr/>
          </p:nvSpPr>
          <p:spPr>
            <a:xfrm>
              <a:off x="8114040" y="1308240"/>
              <a:ext cx="275040" cy="12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40"/>
            <p:cNvSpPr/>
            <p:nvPr/>
          </p:nvSpPr>
          <p:spPr>
            <a:xfrm>
              <a:off x="7302960" y="1154520"/>
              <a:ext cx="825120" cy="17856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1"/>
            <p:cNvSpPr/>
            <p:nvPr/>
          </p:nvSpPr>
          <p:spPr>
            <a:xfrm>
              <a:off x="7465680" y="1051200"/>
              <a:ext cx="632160" cy="17424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42"/>
            <p:cNvSpPr/>
            <p:nvPr/>
          </p:nvSpPr>
          <p:spPr>
            <a:xfrm>
              <a:off x="7630200" y="968760"/>
              <a:ext cx="343440" cy="759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43"/>
            <p:cNvSpPr/>
            <p:nvPr/>
          </p:nvSpPr>
          <p:spPr>
            <a:xfrm>
              <a:off x="7900920" y="468360"/>
              <a:ext cx="160560" cy="5151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44"/>
            <p:cNvSpPr/>
            <p:nvPr/>
          </p:nvSpPr>
          <p:spPr>
            <a:xfrm>
              <a:off x="7603920" y="887760"/>
              <a:ext cx="305640" cy="507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45"/>
            <p:cNvSpPr/>
            <p:nvPr/>
          </p:nvSpPr>
          <p:spPr>
            <a:xfrm>
              <a:off x="7501680" y="412560"/>
              <a:ext cx="473400" cy="4456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46"/>
            <p:cNvSpPr/>
            <p:nvPr/>
          </p:nvSpPr>
          <p:spPr>
            <a:xfrm>
              <a:off x="7868520" y="1080360"/>
              <a:ext cx="203760" cy="741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47"/>
            <p:cNvSpPr/>
            <p:nvPr/>
          </p:nvSpPr>
          <p:spPr>
            <a:xfrm>
              <a:off x="7947000" y="1115280"/>
              <a:ext cx="99360" cy="446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48"/>
            <p:cNvSpPr/>
            <p:nvPr/>
          </p:nvSpPr>
          <p:spPr>
            <a:xfrm>
              <a:off x="7295040" y="1282680"/>
              <a:ext cx="822960" cy="525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49"/>
            <p:cNvSpPr/>
            <p:nvPr/>
          </p:nvSpPr>
          <p:spPr>
            <a:xfrm>
              <a:off x="7362000" y="1042200"/>
              <a:ext cx="424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50"/>
            <p:cNvSpPr/>
            <p:nvPr/>
          </p:nvSpPr>
          <p:spPr>
            <a:xfrm>
              <a:off x="7187400" y="1082880"/>
              <a:ext cx="9864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51"/>
            <p:cNvSpPr/>
            <p:nvPr/>
          </p:nvSpPr>
          <p:spPr>
            <a:xfrm>
              <a:off x="7279200" y="1083240"/>
              <a:ext cx="633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52"/>
            <p:cNvSpPr/>
            <p:nvPr/>
          </p:nvSpPr>
          <p:spPr>
            <a:xfrm>
              <a:off x="7259400" y="1115280"/>
              <a:ext cx="78480" cy="9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53"/>
            <p:cNvSpPr/>
            <p:nvPr/>
          </p:nvSpPr>
          <p:spPr>
            <a:xfrm>
              <a:off x="7273440" y="1180080"/>
              <a:ext cx="3888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54"/>
            <p:cNvSpPr/>
            <p:nvPr/>
          </p:nvSpPr>
          <p:spPr>
            <a:xfrm>
              <a:off x="7251480" y="1084680"/>
              <a:ext cx="1004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55"/>
            <p:cNvSpPr/>
            <p:nvPr/>
          </p:nvSpPr>
          <p:spPr>
            <a:xfrm>
              <a:off x="7282800" y="1129320"/>
              <a:ext cx="6948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56"/>
            <p:cNvSpPr/>
            <p:nvPr/>
          </p:nvSpPr>
          <p:spPr>
            <a:xfrm>
              <a:off x="7093080" y="878400"/>
              <a:ext cx="52920" cy="16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57"/>
            <p:cNvSpPr/>
            <p:nvPr/>
          </p:nvSpPr>
          <p:spPr>
            <a:xfrm>
              <a:off x="7124760" y="887760"/>
              <a:ext cx="4320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58"/>
            <p:cNvSpPr/>
            <p:nvPr/>
          </p:nvSpPr>
          <p:spPr>
            <a:xfrm>
              <a:off x="7147800" y="860760"/>
              <a:ext cx="87840" cy="19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59"/>
            <p:cNvSpPr/>
            <p:nvPr/>
          </p:nvSpPr>
          <p:spPr>
            <a:xfrm>
              <a:off x="7159320" y="1004040"/>
              <a:ext cx="4068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60"/>
            <p:cNvSpPr/>
            <p:nvPr/>
          </p:nvSpPr>
          <p:spPr>
            <a:xfrm>
              <a:off x="7110720" y="820800"/>
              <a:ext cx="3384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61"/>
            <p:cNvSpPr/>
            <p:nvPr/>
          </p:nvSpPr>
          <p:spPr>
            <a:xfrm>
              <a:off x="7141680" y="819720"/>
              <a:ext cx="1404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62"/>
            <p:cNvSpPr/>
            <p:nvPr/>
          </p:nvSpPr>
          <p:spPr>
            <a:xfrm>
              <a:off x="7165440" y="1022400"/>
              <a:ext cx="201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63"/>
            <p:cNvSpPr/>
            <p:nvPr/>
          </p:nvSpPr>
          <p:spPr>
            <a:xfrm>
              <a:off x="7178400" y="997920"/>
              <a:ext cx="24408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64"/>
            <p:cNvSpPr/>
            <p:nvPr/>
          </p:nvSpPr>
          <p:spPr>
            <a:xfrm>
              <a:off x="7305120" y="783720"/>
              <a:ext cx="604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65"/>
            <p:cNvSpPr/>
            <p:nvPr/>
          </p:nvSpPr>
          <p:spPr>
            <a:xfrm>
              <a:off x="7317000" y="831960"/>
              <a:ext cx="3456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66"/>
            <p:cNvSpPr/>
            <p:nvPr/>
          </p:nvSpPr>
          <p:spPr>
            <a:xfrm>
              <a:off x="7306920" y="852120"/>
              <a:ext cx="4428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67"/>
            <p:cNvSpPr/>
            <p:nvPr/>
          </p:nvSpPr>
          <p:spPr>
            <a:xfrm>
              <a:off x="7304760" y="882360"/>
              <a:ext cx="3384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68"/>
            <p:cNvSpPr/>
            <p:nvPr/>
          </p:nvSpPr>
          <p:spPr>
            <a:xfrm>
              <a:off x="7297920" y="889560"/>
              <a:ext cx="42480" cy="16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69"/>
            <p:cNvSpPr/>
            <p:nvPr/>
          </p:nvSpPr>
          <p:spPr>
            <a:xfrm>
              <a:off x="7268760" y="892800"/>
              <a:ext cx="38160" cy="16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70"/>
            <p:cNvSpPr/>
            <p:nvPr/>
          </p:nvSpPr>
          <p:spPr>
            <a:xfrm>
              <a:off x="7352280" y="743760"/>
              <a:ext cx="7488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71"/>
            <p:cNvSpPr/>
            <p:nvPr/>
          </p:nvSpPr>
          <p:spPr>
            <a:xfrm>
              <a:off x="7422480" y="743760"/>
              <a:ext cx="255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72"/>
            <p:cNvSpPr/>
            <p:nvPr/>
          </p:nvSpPr>
          <p:spPr>
            <a:xfrm>
              <a:off x="7357680" y="793080"/>
              <a:ext cx="91080" cy="24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73"/>
            <p:cNvSpPr/>
            <p:nvPr/>
          </p:nvSpPr>
          <p:spPr>
            <a:xfrm>
              <a:off x="7338960" y="779400"/>
              <a:ext cx="77760" cy="26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74"/>
            <p:cNvSpPr/>
            <p:nvPr/>
          </p:nvSpPr>
          <p:spPr>
            <a:xfrm>
              <a:off x="7315560" y="978120"/>
              <a:ext cx="2916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75"/>
            <p:cNvSpPr/>
            <p:nvPr/>
          </p:nvSpPr>
          <p:spPr>
            <a:xfrm>
              <a:off x="7327800" y="914400"/>
              <a:ext cx="3204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76"/>
            <p:cNvSpPr/>
            <p:nvPr/>
          </p:nvSpPr>
          <p:spPr>
            <a:xfrm>
              <a:off x="7346160" y="855000"/>
              <a:ext cx="3024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77"/>
            <p:cNvSpPr/>
            <p:nvPr/>
          </p:nvSpPr>
          <p:spPr>
            <a:xfrm>
              <a:off x="7349400" y="802440"/>
              <a:ext cx="33480" cy="2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78"/>
            <p:cNvSpPr/>
            <p:nvPr/>
          </p:nvSpPr>
          <p:spPr>
            <a:xfrm>
              <a:off x="7188840" y="819720"/>
              <a:ext cx="91440" cy="18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79"/>
            <p:cNvSpPr/>
            <p:nvPr/>
          </p:nvSpPr>
          <p:spPr>
            <a:xfrm>
              <a:off x="7210080" y="840600"/>
              <a:ext cx="4680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80"/>
            <p:cNvSpPr/>
            <p:nvPr/>
          </p:nvSpPr>
          <p:spPr>
            <a:xfrm>
              <a:off x="7246800" y="937080"/>
              <a:ext cx="2916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81"/>
            <p:cNvSpPr/>
            <p:nvPr/>
          </p:nvSpPr>
          <p:spPr>
            <a:xfrm>
              <a:off x="7155000" y="1036440"/>
              <a:ext cx="406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82"/>
            <p:cNvSpPr/>
            <p:nvPr/>
          </p:nvSpPr>
          <p:spPr>
            <a:xfrm>
              <a:off x="7331040" y="842760"/>
              <a:ext cx="280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83"/>
            <p:cNvSpPr/>
            <p:nvPr/>
          </p:nvSpPr>
          <p:spPr>
            <a:xfrm>
              <a:off x="7455960" y="1025640"/>
              <a:ext cx="65196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84"/>
            <p:cNvSpPr/>
            <p:nvPr/>
          </p:nvSpPr>
          <p:spPr>
            <a:xfrm>
              <a:off x="8073720" y="1031040"/>
              <a:ext cx="41400" cy="20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85"/>
            <p:cNvSpPr/>
            <p:nvPr/>
          </p:nvSpPr>
          <p:spPr>
            <a:xfrm>
              <a:off x="7863840" y="1085400"/>
              <a:ext cx="18720" cy="6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86"/>
            <p:cNvSpPr/>
            <p:nvPr/>
          </p:nvSpPr>
          <p:spPr>
            <a:xfrm>
              <a:off x="7871760" y="1076040"/>
              <a:ext cx="2037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87"/>
            <p:cNvSpPr/>
            <p:nvPr/>
          </p:nvSpPr>
          <p:spPr>
            <a:xfrm>
              <a:off x="7941960" y="1112760"/>
              <a:ext cx="1155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88"/>
            <p:cNvSpPr/>
            <p:nvPr/>
          </p:nvSpPr>
          <p:spPr>
            <a:xfrm>
              <a:off x="7416360" y="1133280"/>
              <a:ext cx="62244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89"/>
            <p:cNvSpPr/>
            <p:nvPr/>
          </p:nvSpPr>
          <p:spPr>
            <a:xfrm>
              <a:off x="7323840" y="1266480"/>
              <a:ext cx="567000" cy="3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90"/>
            <p:cNvSpPr/>
            <p:nvPr/>
          </p:nvSpPr>
          <p:spPr>
            <a:xfrm>
              <a:off x="8055720" y="1170000"/>
              <a:ext cx="7560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91"/>
            <p:cNvSpPr/>
            <p:nvPr/>
          </p:nvSpPr>
          <p:spPr>
            <a:xfrm>
              <a:off x="8090280" y="1293480"/>
              <a:ext cx="4320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92"/>
            <p:cNvSpPr/>
            <p:nvPr/>
          </p:nvSpPr>
          <p:spPr>
            <a:xfrm>
              <a:off x="7308360" y="1309680"/>
              <a:ext cx="79596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93"/>
            <p:cNvSpPr/>
            <p:nvPr/>
          </p:nvSpPr>
          <p:spPr>
            <a:xfrm>
              <a:off x="7458480" y="1175760"/>
              <a:ext cx="42408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94"/>
            <p:cNvSpPr/>
            <p:nvPr/>
          </p:nvSpPr>
          <p:spPr>
            <a:xfrm>
              <a:off x="7437240" y="1216080"/>
              <a:ext cx="30852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95"/>
            <p:cNvSpPr/>
            <p:nvPr/>
          </p:nvSpPr>
          <p:spPr>
            <a:xfrm>
              <a:off x="7942680" y="1206360"/>
              <a:ext cx="9324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96"/>
            <p:cNvSpPr/>
            <p:nvPr/>
          </p:nvSpPr>
          <p:spPr>
            <a:xfrm>
              <a:off x="7963560" y="1230120"/>
              <a:ext cx="9432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7"/>
            <p:cNvSpPr/>
            <p:nvPr/>
          </p:nvSpPr>
          <p:spPr>
            <a:xfrm>
              <a:off x="7971120" y="1258560"/>
              <a:ext cx="1090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98"/>
            <p:cNvSpPr/>
            <p:nvPr/>
          </p:nvSpPr>
          <p:spPr>
            <a:xfrm>
              <a:off x="7443360" y="333720"/>
              <a:ext cx="579600" cy="15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99"/>
            <p:cNvSpPr/>
            <p:nvPr/>
          </p:nvSpPr>
          <p:spPr>
            <a:xfrm>
              <a:off x="8042760" y="345960"/>
              <a:ext cx="59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00"/>
            <p:cNvSpPr/>
            <p:nvPr/>
          </p:nvSpPr>
          <p:spPr>
            <a:xfrm>
              <a:off x="8003160" y="423720"/>
              <a:ext cx="100440" cy="5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01"/>
            <p:cNvSpPr/>
            <p:nvPr/>
          </p:nvSpPr>
          <p:spPr>
            <a:xfrm>
              <a:off x="7976880" y="380520"/>
              <a:ext cx="64440" cy="48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02"/>
            <p:cNvSpPr/>
            <p:nvPr/>
          </p:nvSpPr>
          <p:spPr>
            <a:xfrm>
              <a:off x="7442640" y="505800"/>
              <a:ext cx="111600" cy="44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103"/>
            <p:cNvSpPr/>
            <p:nvPr/>
          </p:nvSpPr>
          <p:spPr>
            <a:xfrm>
              <a:off x="7565400" y="955440"/>
              <a:ext cx="36432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04"/>
            <p:cNvSpPr/>
            <p:nvPr/>
          </p:nvSpPr>
          <p:spPr>
            <a:xfrm>
              <a:off x="7937640" y="956520"/>
              <a:ext cx="6876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05"/>
            <p:cNvSpPr/>
            <p:nvPr/>
          </p:nvSpPr>
          <p:spPr>
            <a:xfrm>
              <a:off x="7601760" y="961560"/>
              <a:ext cx="5544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06"/>
            <p:cNvSpPr/>
            <p:nvPr/>
          </p:nvSpPr>
          <p:spPr>
            <a:xfrm>
              <a:off x="7570080" y="1031040"/>
              <a:ext cx="2664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07"/>
            <p:cNvSpPr/>
            <p:nvPr/>
          </p:nvSpPr>
          <p:spPr>
            <a:xfrm>
              <a:off x="7875000" y="960120"/>
              <a:ext cx="8028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08"/>
            <p:cNvSpPr/>
            <p:nvPr/>
          </p:nvSpPr>
          <p:spPr>
            <a:xfrm>
              <a:off x="7966440" y="996840"/>
              <a:ext cx="12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09"/>
            <p:cNvSpPr/>
            <p:nvPr/>
          </p:nvSpPr>
          <p:spPr>
            <a:xfrm>
              <a:off x="7595280" y="904320"/>
              <a:ext cx="1692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10"/>
            <p:cNvSpPr/>
            <p:nvPr/>
          </p:nvSpPr>
          <p:spPr>
            <a:xfrm>
              <a:off x="7596360" y="880920"/>
              <a:ext cx="32148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11"/>
            <p:cNvSpPr/>
            <p:nvPr/>
          </p:nvSpPr>
          <p:spPr>
            <a:xfrm>
              <a:off x="7909560" y="882720"/>
              <a:ext cx="11880" cy="4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12"/>
            <p:cNvSpPr/>
            <p:nvPr/>
          </p:nvSpPr>
          <p:spPr>
            <a:xfrm>
              <a:off x="7842960" y="899640"/>
              <a:ext cx="1188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13"/>
            <p:cNvSpPr/>
            <p:nvPr/>
          </p:nvSpPr>
          <p:spPr>
            <a:xfrm>
              <a:off x="7782840" y="898920"/>
              <a:ext cx="1512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14"/>
            <p:cNvSpPr/>
            <p:nvPr/>
          </p:nvSpPr>
          <p:spPr>
            <a:xfrm>
              <a:off x="7713000" y="897120"/>
              <a:ext cx="13680" cy="3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15"/>
            <p:cNvSpPr/>
            <p:nvPr/>
          </p:nvSpPr>
          <p:spPr>
            <a:xfrm>
              <a:off x="7652520" y="900720"/>
              <a:ext cx="1512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16"/>
            <p:cNvSpPr/>
            <p:nvPr/>
          </p:nvSpPr>
          <p:spPr>
            <a:xfrm>
              <a:off x="7829640" y="444960"/>
              <a:ext cx="11592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17"/>
            <p:cNvSpPr/>
            <p:nvPr/>
          </p:nvSpPr>
          <p:spPr>
            <a:xfrm>
              <a:off x="7507800" y="597600"/>
              <a:ext cx="92880" cy="26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18"/>
            <p:cNvSpPr/>
            <p:nvPr/>
          </p:nvSpPr>
          <p:spPr>
            <a:xfrm>
              <a:off x="7599600" y="824400"/>
              <a:ext cx="33084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19"/>
            <p:cNvSpPr/>
            <p:nvPr/>
          </p:nvSpPr>
          <p:spPr>
            <a:xfrm>
              <a:off x="7908840" y="432000"/>
              <a:ext cx="68040" cy="41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20"/>
            <p:cNvSpPr/>
            <p:nvPr/>
          </p:nvSpPr>
          <p:spPr>
            <a:xfrm>
              <a:off x="7293240" y="1148400"/>
              <a:ext cx="11628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121"/>
            <p:cNvSpPr/>
            <p:nvPr/>
          </p:nvSpPr>
          <p:spPr>
            <a:xfrm>
              <a:off x="7120440" y="350280"/>
              <a:ext cx="592560" cy="51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22"/>
            <p:cNvSpPr/>
            <p:nvPr/>
          </p:nvSpPr>
          <p:spPr>
            <a:xfrm>
              <a:off x="8049960" y="650520"/>
              <a:ext cx="409320" cy="61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23"/>
            <p:cNvSpPr/>
            <p:nvPr/>
          </p:nvSpPr>
          <p:spPr>
            <a:xfrm>
              <a:off x="7287480" y="1274040"/>
              <a:ext cx="3348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124"/>
            <p:cNvSpPr/>
            <p:nvPr/>
          </p:nvSpPr>
          <p:spPr>
            <a:xfrm>
              <a:off x="7492680" y="1318680"/>
              <a:ext cx="81288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25"/>
            <p:cNvSpPr/>
            <p:nvPr/>
          </p:nvSpPr>
          <p:spPr>
            <a:xfrm>
              <a:off x="7507440" y="428040"/>
              <a:ext cx="45216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26"/>
            <p:cNvSpPr/>
            <p:nvPr/>
          </p:nvSpPr>
          <p:spPr>
            <a:xfrm>
              <a:off x="7536600" y="464760"/>
              <a:ext cx="18468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27"/>
            <p:cNvSpPr/>
            <p:nvPr/>
          </p:nvSpPr>
          <p:spPr>
            <a:xfrm>
              <a:off x="7452000" y="1069200"/>
              <a:ext cx="1620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aptop"/>
          <p:cNvSpPr/>
          <p:nvPr/>
        </p:nvSpPr>
        <p:spPr>
          <a:xfrm>
            <a:off x="3924360" y="3500280"/>
            <a:ext cx="2016000" cy="1649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Infopage"/>
          <p:cNvSpPr/>
          <p:nvPr/>
        </p:nvSpPr>
        <p:spPr>
          <a:xfrm>
            <a:off x="6948360" y="1989000"/>
            <a:ext cx="1208160" cy="1656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7"/>
          <p:cNvGrpSpPr/>
          <p:nvPr/>
        </p:nvGrpSpPr>
        <p:grpSpPr>
          <a:xfrm>
            <a:off x="1258920" y="1916280"/>
            <a:ext cx="1657080" cy="1728360"/>
            <a:chOff x="1258920" y="1916280"/>
            <a:chExt cx="1657080" cy="1728360"/>
          </a:xfrm>
        </p:grpSpPr>
        <p:sp>
          <p:nvSpPr>
            <p:cNvPr id="406" name="Film"/>
            <p:cNvSpPr/>
            <p:nvPr/>
          </p:nvSpPr>
          <p:spPr>
            <a:xfrm>
              <a:off x="1258920" y="2356560"/>
              <a:ext cx="691200" cy="12880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Sound"/>
            <p:cNvSpPr/>
            <p:nvPr/>
          </p:nvSpPr>
          <p:spPr>
            <a:xfrm>
              <a:off x="1658880" y="1916280"/>
              <a:ext cx="960120" cy="8542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Photo"/>
            <p:cNvSpPr/>
            <p:nvPr/>
          </p:nvSpPr>
          <p:spPr>
            <a:xfrm>
              <a:off x="2023560" y="2424600"/>
              <a:ext cx="892440" cy="7729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Music"/>
            <p:cNvSpPr/>
            <p:nvPr/>
          </p:nvSpPr>
          <p:spPr>
            <a:xfrm>
              <a:off x="2127600" y="2876400"/>
              <a:ext cx="731160" cy="7473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145"/>
          <p:cNvSpPr/>
          <p:nvPr/>
        </p:nvSpPr>
        <p:spPr>
          <a:xfrm>
            <a:off x="1187280" y="3860640"/>
            <a:ext cx="20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Использование наглядных пособий и технических средств обу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46"/>
          <p:cNvSpPr/>
          <p:nvPr/>
        </p:nvSpPr>
        <p:spPr>
          <a:xfrm>
            <a:off x="3924360" y="53737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Использование компьютера и компьютерных средств обу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7"/>
          <p:cNvSpPr/>
          <p:nvPr/>
        </p:nvSpPr>
        <p:spPr>
          <a:xfrm>
            <a:off x="6659640" y="393372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Использование методической литера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48"/>
          <p:cNvSpPr/>
          <p:nvPr/>
        </p:nvSpPr>
        <p:spPr>
          <a:xfrm>
            <a:off x="1692360" y="558972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8681"/>
                </a:moveTo>
                <a:lnTo>
                  <a:pt x="7301" y="8681"/>
                </a:lnTo>
                <a:lnTo>
                  <a:pt x="7301" y="14016"/>
                </a:lnTo>
                <a:cubicBezTo>
                  <a:pt x="7301" y="14939"/>
                  <a:pt x="8102" y="15670"/>
                  <a:pt x="9138" y="15670"/>
                </a:cubicBezTo>
                <a:lnTo>
                  <a:pt x="10800" y="15670"/>
                </a:lnTo>
                <a:cubicBezTo>
                  <a:pt x="11836" y="15670"/>
                  <a:pt x="12636" y="14939"/>
                  <a:pt x="12636" y="14016"/>
                </a:cubicBezTo>
                <a:lnTo>
                  <a:pt x="12636" y="8681"/>
                </a:lnTo>
                <a:lnTo>
                  <a:pt x="10800" y="8681"/>
                </a:lnTo>
                <a:lnTo>
                  <a:pt x="14308" y="5173"/>
                </a:lnTo>
                <a:lnTo>
                  <a:pt x="17981" y="8681"/>
                </a:lnTo>
                <a:lnTo>
                  <a:pt x="16144" y="8681"/>
                </a:lnTo>
                <a:lnTo>
                  <a:pt x="16144" y="14016"/>
                </a:lnTo>
                <a:cubicBezTo>
                  <a:pt x="16144" y="16784"/>
                  <a:pt x="13568" y="19343"/>
                  <a:pt x="10800" y="19343"/>
                </a:cubicBezTo>
                <a:lnTo>
                  <a:pt x="9138" y="19343"/>
                </a:lnTo>
                <a:cubicBezTo>
                  <a:pt x="6370" y="19343"/>
                  <a:pt x="3794" y="16784"/>
                  <a:pt x="3794" y="14016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150">
            <a:hlinkClick r:id="" action="ppaction://hlinkshowjump?jump=nextslide"/>
          </p:cNvPr>
          <p:cNvSpPr/>
          <p:nvPr/>
        </p:nvSpPr>
        <p:spPr>
          <a:xfrm>
            <a:off x="745164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Раздел 6 </a:t>
            </a:r>
            <a:br>
              <a:rPr sz="2400"/>
            </a:b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«Выполнение функций классного руководителя»</a:t>
            </a:r>
            <a:endParaRPr b="0" lang="en-US" sz="2400" spc="-1" strike="noStrike">
              <a:solidFill>
                <a:srgbClr val="696464"/>
              </a:solidFill>
              <a:latin typeface="Times New Roman"/>
            </a:endParaRPr>
          </a:p>
        </p:txBody>
      </p:sp>
      <p:pic>
        <p:nvPicPr>
          <p:cNvPr id="416" name="Picture 3" descr="MCj03432970000[1]"/>
          <p:cNvPicPr/>
          <p:nvPr/>
        </p:nvPicPr>
        <p:blipFill>
          <a:blip r:embed="rId1"/>
          <a:stretch/>
        </p:blipFill>
        <p:spPr>
          <a:xfrm>
            <a:off x="7524720" y="404640"/>
            <a:ext cx="1068480" cy="10814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4"/>
          <p:cNvSpPr/>
          <p:nvPr/>
        </p:nvSpPr>
        <p:spPr>
          <a:xfrm>
            <a:off x="2411280" y="5589720"/>
            <a:ext cx="648000" cy="71892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63">
                <a:moveTo>
                  <a:pt x="0" y="0"/>
                </a:moveTo>
                <a:lnTo>
                  <a:pt x="21600" y="0"/>
                </a:lnTo>
                <a:lnTo>
                  <a:pt x="21600" y="23963"/>
                </a:lnTo>
                <a:lnTo>
                  <a:pt x="0" y="23963"/>
                </a:lnTo>
                <a:close/>
              </a:path>
              <a:path fill="lightenLess" w="21600" h="239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63">
                <a:moveTo>
                  <a:pt x="21600" y="0"/>
                </a:moveTo>
                <a:lnTo>
                  <a:pt x="21600" y="23963"/>
                </a:lnTo>
                <a:lnTo>
                  <a:pt x="20200" y="22563"/>
                </a:lnTo>
                <a:lnTo>
                  <a:pt x="20200" y="1400"/>
                </a:lnTo>
                <a:close/>
              </a:path>
              <a:path fill="darkenLess" w="21600" h="23963">
                <a:moveTo>
                  <a:pt x="21600" y="23963"/>
                </a:moveTo>
                <a:lnTo>
                  <a:pt x="0" y="23963"/>
                </a:lnTo>
                <a:lnTo>
                  <a:pt x="1400" y="22563"/>
                </a:lnTo>
                <a:lnTo>
                  <a:pt x="20200" y="22563"/>
                </a:lnTo>
                <a:close/>
              </a:path>
              <a:path fill="lighten" w="21600" h="23963">
                <a:moveTo>
                  <a:pt x="0" y="239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63"/>
                </a:lnTo>
                <a:close/>
              </a:path>
              <a:path fill="darken" w="21600" h="23963">
                <a:moveTo>
                  <a:pt x="3794" y="8674"/>
                </a:moveTo>
                <a:lnTo>
                  <a:pt x="7301" y="8674"/>
                </a:lnTo>
                <a:lnTo>
                  <a:pt x="7301" y="14009"/>
                </a:lnTo>
                <a:cubicBezTo>
                  <a:pt x="7301" y="14932"/>
                  <a:pt x="8102" y="15663"/>
                  <a:pt x="9138" y="15663"/>
                </a:cubicBezTo>
                <a:lnTo>
                  <a:pt x="10800" y="15663"/>
                </a:lnTo>
                <a:cubicBezTo>
                  <a:pt x="11836" y="15663"/>
                  <a:pt x="12636" y="14932"/>
                  <a:pt x="12636" y="14009"/>
                </a:cubicBezTo>
                <a:lnTo>
                  <a:pt x="12636" y="8674"/>
                </a:lnTo>
                <a:lnTo>
                  <a:pt x="10800" y="8674"/>
                </a:lnTo>
                <a:lnTo>
                  <a:pt x="14308" y="5166"/>
                </a:lnTo>
                <a:lnTo>
                  <a:pt x="17981" y="8674"/>
                </a:lnTo>
                <a:lnTo>
                  <a:pt x="16144" y="8674"/>
                </a:lnTo>
                <a:lnTo>
                  <a:pt x="16144" y="14009"/>
                </a:lnTo>
                <a:cubicBezTo>
                  <a:pt x="16144" y="16777"/>
                  <a:pt x="13568" y="19336"/>
                  <a:pt x="10800" y="19336"/>
                </a:cubicBezTo>
                <a:lnTo>
                  <a:pt x="9138" y="19336"/>
                </a:lnTo>
                <a:cubicBezTo>
                  <a:pt x="6370" y="19336"/>
                  <a:pt x="3794" y="16777"/>
                  <a:pt x="3794" y="14009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5" descr="J0079114"/>
          <p:cNvPicPr/>
          <p:nvPr/>
        </p:nvPicPr>
        <p:blipFill>
          <a:blip r:embed="rId2"/>
          <a:stretch/>
        </p:blipFill>
        <p:spPr>
          <a:xfrm>
            <a:off x="1187280" y="3500280"/>
            <a:ext cx="1243080" cy="281628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6"/>
          <p:cNvSpPr/>
          <p:nvPr/>
        </p:nvSpPr>
        <p:spPr>
          <a:xfrm>
            <a:off x="1042920" y="1557360"/>
            <a:ext cx="280836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Использ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рограмм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одходов к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с классным коллекти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4572000" y="1557360"/>
            <a:ext cx="280836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Результативность участ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учащихся класса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мероприятия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различного уровн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2411280" y="2997360"/>
            <a:ext cx="2881440" cy="1079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Охват обучающихся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дополнительны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4067280" y="5445000"/>
            <a:ext cx="2808360" cy="10796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Работа с родител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5796000" y="2997360"/>
            <a:ext cx="2808360" cy="1079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Информация 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равонарушен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2556000" y="4221000"/>
            <a:ext cx="2808000" cy="10796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ученического само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2"/>
          <p:cNvSpPr/>
          <p:nvPr/>
        </p:nvSpPr>
        <p:spPr>
          <a:xfrm>
            <a:off x="5796000" y="4221000"/>
            <a:ext cx="2808360" cy="10796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Охват учащих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горячим пит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13">
            <a:hlinkClick r:id="" action="ppaction://hlinkshowjump?jump=nextslide"/>
          </p:cNvPr>
          <p:cNvSpPr/>
          <p:nvPr/>
        </p:nvSpPr>
        <p:spPr>
          <a:xfrm>
            <a:off x="745164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Раздел 7 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«Отзывы о педагогической 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деятельности»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pic>
        <p:nvPicPr>
          <p:cNvPr id="428" name="Picture 4" descr="MCj02975670000[1]"/>
          <p:cNvPicPr/>
          <p:nvPr/>
        </p:nvPicPr>
        <p:blipFill>
          <a:blip r:embed="rId1"/>
          <a:stretch/>
        </p:blipFill>
        <p:spPr>
          <a:xfrm>
            <a:off x="6732720" y="549360"/>
            <a:ext cx="1701720" cy="88884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5"/>
          <p:cNvSpPr/>
          <p:nvPr/>
        </p:nvSpPr>
        <p:spPr>
          <a:xfrm>
            <a:off x="7451640" y="551664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8681"/>
                </a:moveTo>
                <a:lnTo>
                  <a:pt x="7301" y="8681"/>
                </a:lnTo>
                <a:lnTo>
                  <a:pt x="7301" y="14016"/>
                </a:lnTo>
                <a:cubicBezTo>
                  <a:pt x="7301" y="14939"/>
                  <a:pt x="8102" y="15670"/>
                  <a:pt x="9138" y="15670"/>
                </a:cubicBezTo>
                <a:lnTo>
                  <a:pt x="10800" y="15670"/>
                </a:lnTo>
                <a:cubicBezTo>
                  <a:pt x="11836" y="15670"/>
                  <a:pt x="12636" y="14939"/>
                  <a:pt x="12636" y="14016"/>
                </a:cubicBezTo>
                <a:lnTo>
                  <a:pt x="12636" y="8681"/>
                </a:lnTo>
                <a:lnTo>
                  <a:pt x="10800" y="8681"/>
                </a:lnTo>
                <a:lnTo>
                  <a:pt x="14308" y="5173"/>
                </a:lnTo>
                <a:lnTo>
                  <a:pt x="17981" y="8681"/>
                </a:lnTo>
                <a:lnTo>
                  <a:pt x="16144" y="8681"/>
                </a:lnTo>
                <a:lnTo>
                  <a:pt x="16144" y="14016"/>
                </a:lnTo>
                <a:cubicBezTo>
                  <a:pt x="16144" y="16784"/>
                  <a:pt x="13568" y="19343"/>
                  <a:pt x="10800" y="19343"/>
                </a:cubicBezTo>
                <a:lnTo>
                  <a:pt x="9138" y="19343"/>
                </a:lnTo>
                <a:cubicBezTo>
                  <a:pt x="6370" y="19343"/>
                  <a:pt x="3794" y="16784"/>
                  <a:pt x="3794" y="14016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588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Раздел 7 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«Общественная деятельность педагога»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7451640" y="551664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8681"/>
                </a:moveTo>
                <a:lnTo>
                  <a:pt x="7301" y="8681"/>
                </a:lnTo>
                <a:lnTo>
                  <a:pt x="7301" y="14016"/>
                </a:lnTo>
                <a:cubicBezTo>
                  <a:pt x="7301" y="14939"/>
                  <a:pt x="8102" y="15670"/>
                  <a:pt x="9138" y="15670"/>
                </a:cubicBezTo>
                <a:lnTo>
                  <a:pt x="10800" y="15670"/>
                </a:lnTo>
                <a:cubicBezTo>
                  <a:pt x="11836" y="15670"/>
                  <a:pt x="12636" y="14939"/>
                  <a:pt x="12636" y="14016"/>
                </a:cubicBezTo>
                <a:lnTo>
                  <a:pt x="12636" y="8681"/>
                </a:lnTo>
                <a:lnTo>
                  <a:pt x="10800" y="8681"/>
                </a:lnTo>
                <a:lnTo>
                  <a:pt x="14308" y="5173"/>
                </a:lnTo>
                <a:lnTo>
                  <a:pt x="17981" y="8681"/>
                </a:lnTo>
                <a:lnTo>
                  <a:pt x="16144" y="8681"/>
                </a:lnTo>
                <a:lnTo>
                  <a:pt x="16144" y="14016"/>
                </a:lnTo>
                <a:cubicBezTo>
                  <a:pt x="16144" y="16784"/>
                  <a:pt x="13568" y="19343"/>
                  <a:pt x="10800" y="19343"/>
                </a:cubicBezTo>
                <a:lnTo>
                  <a:pt x="9138" y="19343"/>
                </a:lnTo>
                <a:cubicBezTo>
                  <a:pt x="6370" y="19343"/>
                  <a:pt x="3794" y="16784"/>
                  <a:pt x="3794" y="14016"/>
                </a:cubicBez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6" descr="MCj01977620000[1]"/>
          <p:cNvPicPr/>
          <p:nvPr/>
        </p:nvPicPr>
        <p:blipFill>
          <a:blip r:embed="rId1"/>
          <a:stretch/>
        </p:blipFill>
        <p:spPr>
          <a:xfrm>
            <a:off x="7380360" y="404640"/>
            <a:ext cx="1162080" cy="1046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MCBD09265_0000[1]"/>
          <p:cNvPicPr/>
          <p:nvPr/>
        </p:nvPicPr>
        <p:blipFill>
          <a:blip r:embed="rId2"/>
          <a:stretch/>
        </p:blipFill>
        <p:spPr>
          <a:xfrm>
            <a:off x="1258920" y="4710240"/>
            <a:ext cx="18003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Портфолио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1081080" y="476280"/>
          <a:ext cx="104472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476280"/>
                    <a:ext cx="10447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6415200" y="4869000"/>
            <a:ext cx="2728800" cy="1807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"/>
          <p:cNvSpPr/>
          <p:nvPr/>
        </p:nvSpPr>
        <p:spPr>
          <a:xfrm>
            <a:off x="2556000" y="1413000"/>
            <a:ext cx="583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258920" y="2997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учителя     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(предм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(образовательное учрежде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(фамилия, имя, отчеств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2843280" y="549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Полное наименование  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01520" y="584280"/>
            <a:ext cx="776124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993300"/>
                </a:solidFill>
                <a:latin typeface="Comic Sans MS"/>
              </a:rPr>
              <a:t>Требования к оформлению портфолио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8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истематичность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и регулярность самомониторинг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объектив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налитичность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, нацеленность автора на повышение уровня профессионализма и достижение более высоких результа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труктуризация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материалов портфоли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логичность излож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лаконичность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всех письменных поясн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куратность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и эстетичность 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целостность,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эстетическая завершённость представленных матери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агляд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01520" y="728280"/>
            <a:ext cx="77612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Times New Roman"/>
              </a:rPr>
              <a:t>Требования к оформлению портфолио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imes New Roman"/>
              </a:rPr>
              <a:t>портфолио учителя школы оформляется в кольцевой папке-накопителе с файл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imes New Roman"/>
              </a:rPr>
              <a:t>каждый отдельный материал, включённый в портфолио, датируетс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imes New Roman"/>
              </a:rPr>
              <a:t>нумерация файлов производится в правом нижнем углу фай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2560" y="549000"/>
            <a:ext cx="792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Каждый лист материалов портфолио должен имет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размеры полей, установленные государственным стандартом (в мм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не менее 30 – лево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15 – право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20 – верхне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20 – нижне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- шрифт текста  </a:t>
            </a:r>
            <a:r>
              <a:rPr b="1" lang="en-US" sz="2400" spc="-1" strike="noStrike">
                <a:solidFill>
                  <a:srgbClr val="696464"/>
                </a:solidFill>
                <a:latin typeface="Times New Roman"/>
              </a:rPr>
              <a:t>Times New Roman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- размер шрифта – 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- расстояние межстрочных интервалов – одинар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- красная строка начинается на расстоянии – 12,5</a:t>
            </a: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Object 2"/>
          <p:cNvGraphicFramePr/>
          <p:nvPr/>
        </p:nvGraphicFramePr>
        <p:xfrm>
          <a:off x="1476360" y="549360"/>
          <a:ext cx="683424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49360"/>
                    <a:ext cx="683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3"/>
          <p:cNvGraphicFramePr/>
          <p:nvPr/>
        </p:nvGraphicFramePr>
        <p:xfrm>
          <a:off x="2195640" y="2421000"/>
          <a:ext cx="6697440" cy="21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421000"/>
                    <a:ext cx="669744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4"/>
          <p:cNvGraphicFramePr/>
          <p:nvPr/>
        </p:nvGraphicFramePr>
        <p:xfrm>
          <a:off x="971640" y="4437000"/>
          <a:ext cx="7488000" cy="24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437000"/>
                    <a:ext cx="748800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WordArt 8"/>
          <p:cNvSpPr txBox="1"/>
          <p:nvPr/>
        </p:nvSpPr>
        <p:spPr>
          <a:xfrm>
            <a:off x="1042920" y="260280"/>
            <a:ext cx="684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зультаты </a:t>
            </a:r>
            <a:endParaRPr b="0" i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дагогической деятельности</a:t>
            </a:r>
            <a:endParaRPr b="0" i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WordArt 9"/>
          <p:cNvSpPr txBox="1"/>
          <p:nvPr/>
        </p:nvSpPr>
        <p:spPr>
          <a:xfrm rot="5400000">
            <a:off x="6886080" y="1403280"/>
            <a:ext cx="2952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8" name="WordArt 10"/>
          <p:cNvSpPr txBox="1"/>
          <p:nvPr/>
        </p:nvSpPr>
        <p:spPr>
          <a:xfrm rot="5400000">
            <a:off x="7389360" y="514656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ение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9" name="WordArt 11"/>
          <p:cNvSpPr txBox="1"/>
          <p:nvPr/>
        </p:nvSpPr>
        <p:spPr>
          <a:xfrm rot="5400000">
            <a:off x="611280" y="2996280"/>
            <a:ext cx="223200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усский 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язык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Comic Sans MS"/>
              </a:rPr>
              <a:t>Победители и призеры предметных олимпиад за последние 3 года</a:t>
            </a:r>
            <a:endParaRPr b="0" lang="en-US" sz="32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7200" y="1600200"/>
          <a:ext cx="8229600" cy="4857840"/>
        </p:xfrm>
        <a:graphic>
          <a:graphicData uri="http://schemas.openxmlformats.org/drawingml/2006/table">
            <a:tbl>
              <a:tblPr/>
              <a:tblGrid>
                <a:gridCol w="1522440"/>
                <a:gridCol w="1871640"/>
                <a:gridCol w="2233440"/>
                <a:gridCol w="26020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Школьны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айонны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Всероссийски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призовых м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математический конкурс-игра «Кенгуру 2007»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призовых м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призовых м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 творческих инициатив «SNAIL» 4 Всероссийский дистанционный Весенний Марафон знан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чащий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Участие в творческих конкурсах</a:t>
            </a:r>
            <a:r>
              <a:rPr b="1" lang="ru-RU" sz="2800" spc="-1" strike="noStrike">
                <a:solidFill>
                  <a:srgbClr val="696464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990720" y="1828800"/>
          <a:ext cx="7772400" cy="4375080"/>
        </p:xfrm>
        <a:graphic>
          <a:graphicData uri="http://schemas.openxmlformats.org/drawingml/2006/table">
            <a:tbl>
              <a:tblPr/>
              <a:tblGrid>
                <a:gridCol w="825480"/>
                <a:gridCol w="1496880"/>
                <a:gridCol w="1563840"/>
                <a:gridCol w="1633320"/>
                <a:gridCol w="225288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Шко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оселков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айо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Всероссийс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грамо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олшебная игрушка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победител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урс газеты «Диалог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учащихс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"/>
                        </a:rPr>
                        <a:t>Фестиваль творческих и исследовательских работ учащихся «Портфолио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Участие в творческих конкурсах</a:t>
            </a:r>
            <a:r>
              <a:rPr b="1" lang="ru-RU" sz="2800" spc="-1" strike="noStrike">
                <a:solidFill>
                  <a:srgbClr val="696464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826920" y="981000"/>
          <a:ext cx="7859880" cy="5926320"/>
        </p:xfrm>
        <a:graphic>
          <a:graphicData uri="http://schemas.openxmlformats.org/drawingml/2006/table">
            <a:tbl>
              <a:tblPr/>
              <a:tblGrid>
                <a:gridCol w="835200"/>
                <a:gridCol w="1512720"/>
                <a:gridCol w="1719360"/>
                <a:gridCol w="1444680"/>
                <a:gridCol w="2347920"/>
              </a:tblGrid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Шко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оселков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айо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Всероссийс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грамо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удущее моего посёлк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побе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урс газеты «Ленские вести» «Мамы милой обл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"/>
                        </a:rPr>
                        <a:t>Фестиваль творческих и исследовательских работ учащихся «Портфолио»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российский конкурс российской государственной детской библиотеки и литературного центра В. Д. Берестова «Мой Берестов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   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анты конкурса газеты «1 сентября» «Конкурсы в любую погод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Участие в творческих конкурсах</a:t>
            </a:r>
            <a:r>
              <a:rPr b="1" lang="ru-RU" sz="2800" spc="-1" strike="noStrike">
                <a:solidFill>
                  <a:srgbClr val="696464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042920" y="1052640"/>
          <a:ext cx="7643880" cy="5805360"/>
        </p:xfrm>
        <a:graphic>
          <a:graphicData uri="http://schemas.openxmlformats.org/drawingml/2006/table">
            <a:tbl>
              <a:tblPr/>
              <a:tblGrid>
                <a:gridCol w="812880"/>
                <a:gridCol w="1471680"/>
                <a:gridCol w="1671480"/>
                <a:gridCol w="1738440"/>
                <a:gridCol w="194940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Шко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оселков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айо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Всероссийс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грам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Цветочное поппури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победител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урс рисунков «Учитель – главная профессия страны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побе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призё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урс «Новогодние маски» ( 16 учащихс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урс газ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1 сентября» «Мой лучший день в школ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Обобщение и распространение собственного педагогического опыта</a:t>
            </a:r>
            <a:r>
              <a:rPr b="1" lang="ru-RU" sz="20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96464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826920" y="1268280"/>
          <a:ext cx="8066160" cy="5653080"/>
        </p:xfrm>
        <a:graphic>
          <a:graphicData uri="http://schemas.openxmlformats.org/drawingml/2006/table">
            <a:tbl>
              <a:tblPr/>
              <a:tblGrid>
                <a:gridCol w="1079640"/>
                <a:gridCol w="1568520"/>
                <a:gridCol w="1854000"/>
                <a:gridCol w="1473480"/>
                <a:gridCol w="20905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Шко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айо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Областно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Федер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совет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«Портфоли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совет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нар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густовская конфер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«Открытый урок» Фестиваль «Портфоли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совет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лый стол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нар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лый стол    РМО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бликация в сборниках 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урс «Лучший уро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бл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азете 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«Открытый уро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нет – сайт «Педсовет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omic Sans MS"/>
              </a:rPr>
              <a:t>Повышение квалификации</a:t>
            </a:r>
            <a:r>
              <a:rPr b="0" lang="ru-RU" sz="40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00000" y="1052640"/>
          <a:ext cx="7848720" cy="5389560"/>
        </p:xfrm>
        <a:graphic>
          <a:graphicData uri="http://schemas.openxmlformats.org/drawingml/2006/table">
            <a:tbl>
              <a:tblPr/>
              <a:tblGrid>
                <a:gridCol w="998640"/>
                <a:gridCol w="2141640"/>
                <a:gridCol w="1996920"/>
                <a:gridCol w="2711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Дистанцион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Курсы при ИПК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Профессиональная пере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сихологические особенности детей младшего школьного возраста»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пециальности «Логопедия»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еория  и практика педагогического общ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истема Л. В. Занков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ские курсы Еремеевой      Савенко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ридо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пециальности «Логопед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рудности обучения чтению и письм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пециальности «Логопед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6464"/>
                </a:solidFill>
                <a:latin typeface="Times New Roman"/>
              </a:rPr>
              <a:t>           </a:t>
            </a:r>
            <a:r>
              <a:rPr b="1" i="1" lang="ru-RU" sz="4400" spc="-1" strike="noStrike">
                <a:solidFill>
                  <a:srgbClr val="696464"/>
                </a:solidFill>
                <a:latin typeface="Comic Sans MS"/>
              </a:rPr>
              <a:t>«Новый» тип учителя</a:t>
            </a:r>
            <a:r>
              <a:rPr b="1" lang="ru-RU" sz="4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0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ладеющий современными технологиями образован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ёмами психолого-педагогической диагности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м анализировать свою профессиональную деятель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ировать её конечный результ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990720" y="1773360"/>
            <a:ext cx="77724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УЧИТЕЛЬ живёт  до тех пор, пока учиться; как только УЧИТЕЛЬ перестаёт учитьс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в нём умирает УЧИТЕЛ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            </a:t>
            </a:r>
            <a:r>
              <a:rPr b="1" i="1" lang="ru-RU" sz="3600" spc="-1" strike="noStrike">
                <a:solidFill>
                  <a:srgbClr val="993300"/>
                </a:solidFill>
                <a:latin typeface="Comic Sans MS"/>
              </a:rPr>
              <a:t>К. Д. Ушин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4"/>
          <p:cNvSpPr txBox="1"/>
          <p:nvPr/>
        </p:nvSpPr>
        <p:spPr>
          <a:xfrm>
            <a:off x="1243080" y="1341360"/>
            <a:ext cx="743256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2400" spc="1" strike="noStrike">
              <a:ln w="0">
                <a:noFill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м удачи и творческих успехов!</a:t>
            </a:r>
            <a:endParaRPr b="0" lang="en-US" sz="2400" spc="1" strike="noStrike">
              <a:ln w="0">
                <a:noFill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6464"/>
                </a:solidFill>
                <a:latin typeface="Times New Roman"/>
              </a:rPr>
              <a:t>Источники интернета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.wikipedia.org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.1september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den-za-dnem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lpro.ru/dotcom-profes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96464"/>
                </a:solidFill>
                <a:latin typeface="Comic Sans MS"/>
              </a:rPr>
              <a:t>Технология </a:t>
            </a:r>
            <a:br>
              <a:rPr sz="4000"/>
            </a:br>
            <a:r>
              <a:rPr b="1" i="1" lang="ru-RU" sz="4000" spc="-1" strike="noStrike">
                <a:solidFill>
                  <a:srgbClr val="696464"/>
                </a:solidFill>
                <a:latin typeface="Comic Sans MS"/>
              </a:rPr>
              <a:t>«портфолио учителя»</a:t>
            </a:r>
            <a:endParaRPr b="0" lang="en-US" sz="40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7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воляет перейти к более объективной системе оценивания успешности педаго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иентирует педагога на процесс самооценивания (рефлекси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ёт возможность педагогу предложить свой положительный опыт для ознакомления и внедрения в педагогическую прак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ствует педагогическому росту уч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2928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96464"/>
                </a:solidFill>
                <a:latin typeface="Comic Sans MS"/>
              </a:rPr>
              <a:t>Положение о портфолио учителя (педагогического работника) 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но на основ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Концепции модернизации общего образования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Концепции Федеральной целевой программы развития образования на 2006-2010 годы»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 проведения конкурса на получение денежного поощрения лучших учителей (приказ Министерства образования и науки РФ от 10.05.2006 №1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целью повышения качества образования и уровня компетентности и профессионализма педагогических работник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99640" y="2204640"/>
            <a:ext cx="777564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индивидуальная папка, в которой фиксируются, накапливаются и оцениваются личные профессиональные достижения учителя в образовательной деятельности, результаты обучения, воспитания и развития его учеников, вклад педагога в развитие образования в МОУ СОШ  за определённый период времени (за последние 3 год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971640" y="549360"/>
            <a:ext cx="771516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92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696464"/>
                  </a:solidFill>
                  <a:miter/>
                </a:ln>
                <a:solidFill>
                  <a:srgbClr val="696464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РТФОЛИО УЧИТЕЛЯ</a:t>
            </a:r>
            <a:endParaRPr b="1" lang="en-US" sz="4400" spc="1" strike="noStrike">
              <a:ln w="9360">
                <a:solidFill>
                  <a:srgbClr val="696464"/>
                </a:solidFill>
                <a:miter/>
              </a:ln>
              <a:solidFill>
                <a:srgbClr val="696464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263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omic Sans MS"/>
              </a:rPr>
              <a:t>Задачи ведения портфолио</a:t>
            </a:r>
            <a:endParaRPr b="0" lang="en-US" sz="40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явление уровня профессионализма учителя шко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ктивная оценка деятельности учителя школы всеми категориями участников образовательного процесса: администрацией школы, педагогическим коллективом, учащимися и их родителями (законными представителям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бщение и систематизация передового  педагогического опы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флексия учителем собственной педагог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 направлений и путей профессионального роста и развития учителя шко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енное признание достижений учителя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Comic Sans MS"/>
              </a:rPr>
              <a:t>Виды портфолио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imes New Roman"/>
              </a:rPr>
              <a:t>Электронное портфолио педагога - это веб-базированный ресурс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696464"/>
                </a:solidFill>
                <a:latin typeface="Times New Roman"/>
              </a:rPr>
              <a:t>сайт учителя, который отражает индивидуальность и профессиональные достижения владель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omic Sans MS"/>
              </a:rPr>
              <a:t>Виды электронного портфолио</a:t>
            </a:r>
            <a:r>
              <a:rPr b="0" i="1" lang="ru-RU" sz="4000" spc="-1" strike="noStrike">
                <a:solidFill>
                  <a:srgbClr val="696464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696464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ортфолио достижений</a:t>
            </a: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 - наибольший акцент нужно сделать на документы подтверждающие успехи ваше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ортфолио презентационный</a:t>
            </a: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 - необходим при поступлении на новое место работы, особенно в тех случаях, когда заработная плата назначается по итогам собесед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ортфолио тематический</a:t>
            </a: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 - акценты расставляются на тематически обособленные творческие работы в разных сферах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ортфолио комплексный</a:t>
            </a: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 - объединивший в себе вышеперечисленные виды портфолио и пригодный для презентации портфолио учителя школ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2:30:35Z</dcterms:created>
  <dc:creator>Мельникова</dc:creator>
  <dc:description/>
  <dc:language>en-US</dc:language>
  <cp:lastModifiedBy>Elena</cp:lastModifiedBy>
  <dcterms:modified xsi:type="dcterms:W3CDTF">2010-07-17T19:54:58Z</dcterms:modified>
  <cp:revision>51</cp:revision>
  <dc:subject/>
  <dc:title>    ПРОБЛЕМНО-ДИАЛОГИЧЕСКОЕ ОБУЧЕНИЕ:  понятие и технология </dc:title>
</cp:coreProperties>
</file>